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C47D-73C5-4862-BDF1-407A4ED3F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2AAB-7589-43A3-A8AD-DE1553B3E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A75F-CEF4-4DC6-A783-C08AF58BC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7B05-65DE-4A54-8B99-6D92BBD0A2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0271-1178-4AA7-9CE5-E10D773C7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3FA2-BC80-4E20-9DBF-B610C2FDB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1860-D879-4753-B1C1-B5EB67E90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3F57-0234-4C71-830C-BCADF809D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9688-DF26-42BA-8C51-153652340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A609-40E6-499D-8809-4523405A6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C5CA-E45A-4BB6-8E4F-35C9E607B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2DB3-574D-42DC-95E1-41F5DE819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040" y="6324480"/>
            <a:ext cx="7633080" cy="76320"/>
            <a:chOff x="914040" y="6324480"/>
            <a:chExt cx="7633080" cy="76320"/>
          </a:xfrm>
        </p:grpSpPr>
        <p:sp>
          <p:nvSpPr>
            <p:cNvPr id="1" name=""/>
            <p:cNvSpPr/>
            <p:nvPr/>
          </p:nvSpPr>
          <p:spPr>
            <a:xfrm flipH="1" flipV="1">
              <a:off x="8485200" y="6324480"/>
              <a:ext cx="61920" cy="76320"/>
            </a:xfrm>
            <a:prstGeom prst="rect">
              <a:avLst/>
            </a:prstGeom>
            <a:solidFill>
              <a:srgbClr val="ff0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8424720" y="6324480"/>
              <a:ext cx="60480" cy="76320"/>
            </a:xfrm>
            <a:prstGeom prst="rect">
              <a:avLst/>
            </a:prstGeom>
            <a:solidFill>
              <a:srgbClr val="ff0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>
              <a:off x="8362800" y="6324480"/>
              <a:ext cx="61920" cy="76320"/>
            </a:xfrm>
            <a:prstGeom prst="rect">
              <a:avLst/>
            </a:prstGeom>
            <a:solidFill>
              <a:srgbClr val="ff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flipV="1">
              <a:off x="8301960" y="6324480"/>
              <a:ext cx="60120" cy="76320"/>
            </a:xfrm>
            <a:prstGeom prst="rect">
              <a:avLst/>
            </a:prstGeom>
            <a:solidFill>
              <a:srgbClr val="ff15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flipV="1">
              <a:off x="8240760" y="6324480"/>
              <a:ext cx="61920" cy="76320"/>
            </a:xfrm>
            <a:prstGeom prst="rect">
              <a:avLst/>
            </a:prstGeom>
            <a:solidFill>
              <a:srgbClr val="ff1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flipV="1">
              <a:off x="8196120" y="6324480"/>
              <a:ext cx="44640" cy="76320"/>
            </a:xfrm>
            <a:prstGeom prst="rect">
              <a:avLst/>
            </a:prstGeom>
            <a:solidFill>
              <a:srgbClr val="ff1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flipV="1">
              <a:off x="8134200" y="6324480"/>
              <a:ext cx="61920" cy="76320"/>
            </a:xfrm>
            <a:prstGeom prst="rect">
              <a:avLst/>
            </a:prstGeom>
            <a:solidFill>
              <a:srgbClr val="ff1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8073360" y="6324480"/>
              <a:ext cx="60120" cy="76320"/>
            </a:xfrm>
            <a:prstGeom prst="rect">
              <a:avLst/>
            </a:prstGeom>
            <a:solidFill>
              <a:srgbClr val="ff1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8012160" y="6324480"/>
              <a:ext cx="61920" cy="76320"/>
            </a:xfrm>
            <a:prstGeom prst="rect">
              <a:avLst/>
            </a:prstGeom>
            <a:solidFill>
              <a:srgbClr val="ff2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951680" y="6324480"/>
              <a:ext cx="60480" cy="76320"/>
            </a:xfrm>
            <a:prstGeom prst="rect">
              <a:avLst/>
            </a:prstGeom>
            <a:solidFill>
              <a:srgbClr val="ff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7889760" y="6324480"/>
              <a:ext cx="61920" cy="76320"/>
            </a:xfrm>
            <a:prstGeom prst="rect">
              <a:avLst/>
            </a:prstGeom>
            <a:solidFill>
              <a:srgbClr val="ff2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829280" y="6324480"/>
              <a:ext cx="60480" cy="76320"/>
            </a:xfrm>
            <a:prstGeom prst="rect">
              <a:avLst/>
            </a:prstGeom>
            <a:solidFill>
              <a:srgbClr val="ff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767360" y="6324480"/>
              <a:ext cx="61920" cy="76320"/>
            </a:xfrm>
            <a:prstGeom prst="rect">
              <a:avLst/>
            </a:prstGeom>
            <a:solidFill>
              <a:srgbClr val="ff2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7706520" y="6324480"/>
              <a:ext cx="60120" cy="76320"/>
            </a:xfrm>
            <a:prstGeom prst="rect">
              <a:avLst/>
            </a:prstGeom>
            <a:solidFill>
              <a:srgbClr val="ff3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 flipV="1">
              <a:off x="7645320" y="6324480"/>
              <a:ext cx="61920" cy="76320"/>
            </a:xfrm>
            <a:prstGeom prst="rect">
              <a:avLst/>
            </a:prstGeom>
            <a:solidFill>
              <a:srgbClr val="ff3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7600680" y="6324480"/>
              <a:ext cx="44640" cy="76320"/>
            </a:xfrm>
            <a:prstGeom prst="rect">
              <a:avLst/>
            </a:prstGeom>
            <a:solidFill>
              <a:srgbClr val="ff3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7538760" y="6324480"/>
              <a:ext cx="61920" cy="76320"/>
            </a:xfrm>
            <a:prstGeom prst="rect">
              <a:avLst/>
            </a:prstGeom>
            <a:solidFill>
              <a:srgbClr val="ff3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 flipV="1">
              <a:off x="7477920" y="6324480"/>
              <a:ext cx="60120" cy="76320"/>
            </a:xfrm>
            <a:prstGeom prst="rect">
              <a:avLst/>
            </a:prstGeom>
            <a:solidFill>
              <a:srgbClr val="ff3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7416720" y="6324480"/>
              <a:ext cx="61920" cy="76320"/>
            </a:xfrm>
            <a:prstGeom prst="rect">
              <a:avLst/>
            </a:prstGeom>
            <a:solidFill>
              <a:srgbClr val="ff3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flipV="1">
              <a:off x="7356240" y="6324480"/>
              <a:ext cx="60480" cy="76320"/>
            </a:xfrm>
            <a:prstGeom prst="rect">
              <a:avLst/>
            </a:prstGeom>
            <a:solidFill>
              <a:srgbClr val="ff3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flipV="1">
              <a:off x="7294320" y="6324480"/>
              <a:ext cx="61920" cy="76320"/>
            </a:xfrm>
            <a:prstGeom prst="rect">
              <a:avLst/>
            </a:prstGeom>
            <a:solidFill>
              <a:srgbClr val="ff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7233480" y="6324480"/>
              <a:ext cx="60120" cy="76320"/>
            </a:xfrm>
            <a:prstGeom prst="rect">
              <a:avLst/>
            </a:prstGeom>
            <a:solidFill>
              <a:srgbClr val="ff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7172280" y="6324480"/>
              <a:ext cx="61920" cy="76320"/>
            </a:xfrm>
            <a:prstGeom prst="rect">
              <a:avLst/>
            </a:prstGeom>
            <a:solidFill>
              <a:srgbClr val="ff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7111800" y="6324480"/>
              <a:ext cx="60480" cy="76320"/>
            </a:xfrm>
            <a:prstGeom prst="rect">
              <a:avLst/>
            </a:prstGeom>
            <a:solidFill>
              <a:srgbClr val="ff4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049880" y="6324480"/>
              <a:ext cx="61920" cy="76320"/>
            </a:xfrm>
            <a:prstGeom prst="rect">
              <a:avLst/>
            </a:prstGeom>
            <a:solidFill>
              <a:srgbClr val="ff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989040" y="6324480"/>
              <a:ext cx="60120" cy="76320"/>
            </a:xfrm>
            <a:prstGeom prst="rect">
              <a:avLst/>
            </a:prstGeom>
            <a:solidFill>
              <a:srgbClr val="ff4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 flipV="1">
              <a:off x="6943680" y="6324480"/>
              <a:ext cx="46080" cy="76320"/>
            </a:xfrm>
            <a:prstGeom prst="rect">
              <a:avLst/>
            </a:prstGeom>
            <a:solidFill>
              <a:srgbClr val="ff5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flipV="1">
              <a:off x="6883200" y="6324480"/>
              <a:ext cx="60480" cy="76320"/>
            </a:xfrm>
            <a:prstGeom prst="rect">
              <a:avLst/>
            </a:prstGeom>
            <a:solidFill>
              <a:srgbClr val="ff5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 flipV="1">
              <a:off x="6821280" y="6324480"/>
              <a:ext cx="61920" cy="76320"/>
            </a:xfrm>
            <a:prstGeom prst="rect">
              <a:avLst/>
            </a:prstGeom>
            <a:solidFill>
              <a:srgbClr val="ff5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flipV="1">
              <a:off x="6760440" y="6324480"/>
              <a:ext cx="60120" cy="76320"/>
            </a:xfrm>
            <a:prstGeom prst="rect">
              <a:avLst/>
            </a:prstGeom>
            <a:solidFill>
              <a:srgbClr val="f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flipV="1">
              <a:off x="6699240" y="6324480"/>
              <a:ext cx="61920" cy="76320"/>
            </a:xfrm>
            <a:prstGeom prst="rect">
              <a:avLst/>
            </a:prstGeom>
            <a:solidFill>
              <a:srgbClr val="ff5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flipV="1">
              <a:off x="6638760" y="6324480"/>
              <a:ext cx="60480" cy="76320"/>
            </a:xfrm>
            <a:prstGeom prst="rect">
              <a:avLst/>
            </a:prstGeom>
            <a:solidFill>
              <a:srgbClr val="ff5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flipV="1">
              <a:off x="6576840" y="6324480"/>
              <a:ext cx="61920" cy="76320"/>
            </a:xfrm>
            <a:prstGeom prst="rect">
              <a:avLst/>
            </a:prstGeom>
            <a:solidFill>
              <a:srgbClr val="ff6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6516000" y="6324480"/>
              <a:ext cx="60120" cy="76320"/>
            </a:xfrm>
            <a:prstGeom prst="rect">
              <a:avLst/>
            </a:prstGeom>
            <a:solidFill>
              <a:srgbClr val="ff64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flipV="1">
              <a:off x="6454800" y="6324480"/>
              <a:ext cx="61920" cy="76320"/>
            </a:xfrm>
            <a:prstGeom prst="rect">
              <a:avLst/>
            </a:prstGeom>
            <a:solidFill>
              <a:srgbClr val="ff6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6394320" y="6324480"/>
              <a:ext cx="60480" cy="76320"/>
            </a:xfrm>
            <a:prstGeom prst="rect">
              <a:avLst/>
            </a:prstGeom>
            <a:solidFill>
              <a:srgbClr val="ff6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flipV="1">
              <a:off x="6332400" y="6324480"/>
              <a:ext cx="61920" cy="76320"/>
            </a:xfrm>
            <a:prstGeom prst="rect">
              <a:avLst/>
            </a:prstGeom>
            <a:solidFill>
              <a:srgbClr val="ff6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flipV="1">
              <a:off x="6287400" y="6324480"/>
              <a:ext cx="44280" cy="76320"/>
            </a:xfrm>
            <a:prstGeom prst="rect">
              <a:avLst/>
            </a:prstGeom>
            <a:solidFill>
              <a:srgbClr val="ff6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flipV="1">
              <a:off x="6226200" y="6324480"/>
              <a:ext cx="61920" cy="76320"/>
            </a:xfrm>
            <a:prstGeom prst="rect">
              <a:avLst/>
            </a:prstGeom>
            <a:solidFill>
              <a:srgbClr val="ff7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flipV="1">
              <a:off x="6165720" y="6324480"/>
              <a:ext cx="60480" cy="76320"/>
            </a:xfrm>
            <a:prstGeom prst="rect">
              <a:avLst/>
            </a:prstGeom>
            <a:solidFill>
              <a:srgbClr val="ff7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flipV="1">
              <a:off x="6103800" y="6324480"/>
              <a:ext cx="61920" cy="76320"/>
            </a:xfrm>
            <a:prstGeom prst="rect">
              <a:avLst/>
            </a:prstGeom>
            <a:solidFill>
              <a:srgbClr val="ff7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flipV="1">
              <a:off x="6043320" y="6324480"/>
              <a:ext cx="60480" cy="76320"/>
            </a:xfrm>
            <a:prstGeom prst="rect">
              <a:avLst/>
            </a:prstGeom>
            <a:solidFill>
              <a:srgbClr val="ff7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flipV="1">
              <a:off x="5981040" y="6324480"/>
              <a:ext cx="61560" cy="76320"/>
            </a:xfrm>
            <a:prstGeom prst="rect">
              <a:avLst/>
            </a:prstGeom>
            <a:solidFill>
              <a:srgbClr val="ff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5921280" y="6324480"/>
              <a:ext cx="60480" cy="76320"/>
            </a:xfrm>
            <a:prstGeom prst="rect">
              <a:avLst/>
            </a:prstGeom>
            <a:solidFill>
              <a:srgbClr val="ff7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flipV="1">
              <a:off x="5859360" y="6324480"/>
              <a:ext cx="61920" cy="76320"/>
            </a:xfrm>
            <a:prstGeom prst="rect">
              <a:avLst/>
            </a:prstGeom>
            <a:solidFill>
              <a:srgbClr val="ff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5798880" y="6324480"/>
              <a:ext cx="60480" cy="76320"/>
            </a:xfrm>
            <a:prstGeom prst="rect">
              <a:avLst/>
            </a:prstGeom>
            <a:solidFill>
              <a:srgbClr val="ff8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736960" y="6324480"/>
              <a:ext cx="61920" cy="76320"/>
            </a:xfrm>
            <a:prstGeom prst="rect">
              <a:avLst/>
            </a:prstGeom>
            <a:solidFill>
              <a:srgbClr val="ff8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5691960" y="6324480"/>
              <a:ext cx="44280" cy="76320"/>
            </a:xfrm>
            <a:prstGeom prst="rect">
              <a:avLst/>
            </a:prstGeom>
            <a:solidFill>
              <a:srgbClr val="ff8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5630760" y="6324480"/>
              <a:ext cx="61920" cy="76320"/>
            </a:xfrm>
            <a:prstGeom prst="rect">
              <a:avLst/>
            </a:prstGeom>
            <a:solidFill>
              <a:srgbClr val="ff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0280" y="6324480"/>
              <a:ext cx="60480" cy="76320"/>
            </a:xfrm>
            <a:prstGeom prst="rect">
              <a:avLst/>
            </a:prstGeom>
            <a:solidFill>
              <a:srgbClr val="ff8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508360" y="6324480"/>
              <a:ext cx="61920" cy="76320"/>
            </a:xfrm>
            <a:prstGeom prst="rect">
              <a:avLst/>
            </a:prstGeom>
            <a:solidFill>
              <a:srgbClr val="ff9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5447520" y="6324480"/>
              <a:ext cx="60120" cy="76320"/>
            </a:xfrm>
            <a:prstGeom prst="rect">
              <a:avLst/>
            </a:prstGeom>
            <a:solidFill>
              <a:srgbClr val="ff9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5386320" y="6324480"/>
              <a:ext cx="61920" cy="76320"/>
            </a:xfrm>
            <a:prstGeom prst="rect">
              <a:avLst/>
            </a:prstGeom>
            <a:solidFill>
              <a:srgbClr val="ff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325840" y="6324480"/>
              <a:ext cx="60480" cy="76320"/>
            </a:xfrm>
            <a:prstGeom prst="rect">
              <a:avLst/>
            </a:prstGeom>
            <a:solidFill>
              <a:srgbClr val="ff9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5263920" y="6324480"/>
              <a:ext cx="61920" cy="76320"/>
            </a:xfrm>
            <a:prstGeom prst="rect">
              <a:avLst/>
            </a:prstGeom>
            <a:solidFill>
              <a:srgbClr val="ff9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203080" y="6324480"/>
              <a:ext cx="60120" cy="76320"/>
            </a:xfrm>
            <a:prstGeom prst="rect">
              <a:avLst/>
            </a:prstGeom>
            <a:solidFill>
              <a:srgbClr val="ff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5141880" y="6324480"/>
              <a:ext cx="61920" cy="76320"/>
            </a:xfrm>
            <a:prstGeom prst="rect">
              <a:avLst/>
            </a:prstGeom>
            <a:solidFill>
              <a:srgbClr val="ffa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081400" y="6324480"/>
              <a:ext cx="60480" cy="76320"/>
            </a:xfrm>
            <a:prstGeom prst="rect">
              <a:avLst/>
            </a:prstGeom>
            <a:solidFill>
              <a:srgbClr val="ffa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5035320" y="6324480"/>
              <a:ext cx="46080" cy="76320"/>
            </a:xfrm>
            <a:prstGeom prst="rect">
              <a:avLst/>
            </a:prstGeom>
            <a:solidFill>
              <a:srgbClr val="ff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974480" y="6324480"/>
              <a:ext cx="60120" cy="76320"/>
            </a:xfrm>
            <a:prstGeom prst="rect">
              <a:avLst/>
            </a:prstGeom>
            <a:solidFill>
              <a:srgbClr val="ffa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4913280" y="6324480"/>
              <a:ext cx="61920" cy="76320"/>
            </a:xfrm>
            <a:prstGeom prst="rect">
              <a:avLst/>
            </a:prstGeom>
            <a:solidFill>
              <a:srgbClr val="ff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852800" y="6324480"/>
              <a:ext cx="60480" cy="76320"/>
            </a:xfrm>
            <a:prstGeom prst="rect">
              <a:avLst/>
            </a:prstGeom>
            <a:solidFill>
              <a:srgbClr val="ff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790880" y="6324480"/>
              <a:ext cx="61920" cy="76320"/>
            </a:xfrm>
            <a:prstGeom prst="rect">
              <a:avLst/>
            </a:prstGeom>
            <a:solidFill>
              <a:srgbClr val="ffb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730040" y="6324480"/>
              <a:ext cx="60120" cy="76320"/>
            </a:xfrm>
            <a:prstGeom prst="rect">
              <a:avLst/>
            </a:prstGeom>
            <a:solidFill>
              <a:srgbClr val="ff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668840" y="6324480"/>
              <a:ext cx="61920" cy="76320"/>
            </a:xfrm>
            <a:prstGeom prst="rect">
              <a:avLst/>
            </a:prstGeom>
            <a:solidFill>
              <a:srgbClr val="ff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608360" y="6324480"/>
              <a:ext cx="60480" cy="76320"/>
            </a:xfrm>
            <a:prstGeom prst="rect">
              <a:avLst/>
            </a:prstGeom>
            <a:solidFill>
              <a:srgbClr val="ffb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546440" y="6324480"/>
              <a:ext cx="61920" cy="76320"/>
            </a:xfrm>
            <a:prstGeom prst="rect">
              <a:avLst/>
            </a:prstGeom>
            <a:solidFill>
              <a:srgbClr val="ffba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485600" y="6324480"/>
              <a:ext cx="60120" cy="76320"/>
            </a:xfrm>
            <a:prstGeom prst="rect">
              <a:avLst/>
            </a:prstGeom>
            <a:solidFill>
              <a:srgbClr val="ff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424400" y="6324480"/>
              <a:ext cx="61920" cy="76320"/>
            </a:xfrm>
            <a:prstGeom prst="rect">
              <a:avLst/>
            </a:prstGeom>
            <a:solidFill>
              <a:srgbClr val="ff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79760" y="6324480"/>
              <a:ext cx="44640" cy="76320"/>
            </a:xfrm>
            <a:prstGeom prst="rect">
              <a:avLst/>
            </a:prstGeom>
            <a:solidFill>
              <a:srgbClr val="ffc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317840" y="6324480"/>
              <a:ext cx="61920" cy="76320"/>
            </a:xfrm>
            <a:prstGeom prst="rect">
              <a:avLst/>
            </a:prstGeom>
            <a:solidFill>
              <a:srgbClr val="ffc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57000" y="6324480"/>
              <a:ext cx="60120" cy="76320"/>
            </a:xfrm>
            <a:prstGeom prst="rect">
              <a:avLst/>
            </a:prstGeom>
            <a:solidFill>
              <a:srgbClr val="ffc4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195800" y="6324480"/>
              <a:ext cx="61920" cy="76320"/>
            </a:xfrm>
            <a:prstGeom prst="rect">
              <a:avLst/>
            </a:prstGeom>
            <a:solidFill>
              <a:srgbClr val="ff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4135320" y="6324480"/>
              <a:ext cx="60480" cy="76320"/>
            </a:xfrm>
            <a:prstGeom prst="rect">
              <a:avLst/>
            </a:prstGeom>
            <a:solidFill>
              <a:srgbClr val="ffc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073400" y="6324480"/>
              <a:ext cx="61920" cy="76320"/>
            </a:xfrm>
            <a:prstGeom prst="rect">
              <a:avLst/>
            </a:prstGeom>
            <a:solidFill>
              <a:srgbClr val="ff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012920" y="6324480"/>
              <a:ext cx="60480" cy="76320"/>
            </a:xfrm>
            <a:prstGeom prst="rect">
              <a:avLst/>
            </a:prstGeom>
            <a:solidFill>
              <a:srgbClr val="ffc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3951000" y="6324480"/>
              <a:ext cx="61920" cy="76320"/>
            </a:xfrm>
            <a:prstGeom prst="rect">
              <a:avLst/>
            </a:prstGeom>
            <a:solidFill>
              <a:srgbClr val="ffc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890160" y="6324480"/>
              <a:ext cx="60120" cy="76320"/>
            </a:xfrm>
            <a:prstGeom prst="rect">
              <a:avLst/>
            </a:prstGeom>
            <a:solidFill>
              <a:srgbClr val="ff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3828960" y="6324480"/>
              <a:ext cx="61920" cy="76320"/>
            </a:xfrm>
            <a:prstGeom prst="rect">
              <a:avLst/>
            </a:prstGeom>
            <a:solidFill>
              <a:srgbClr val="ff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84320" y="6324480"/>
              <a:ext cx="44640" cy="76320"/>
            </a:xfrm>
            <a:prstGeom prst="rect">
              <a:avLst/>
            </a:prstGeom>
            <a:solidFill>
              <a:srgbClr val="ff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722400" y="6324480"/>
              <a:ext cx="61920" cy="76320"/>
            </a:xfrm>
            <a:prstGeom prst="rect">
              <a:avLst/>
            </a:prstGeom>
            <a:solidFill>
              <a:srgbClr val="ffd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661560" y="6324480"/>
              <a:ext cx="60120" cy="76320"/>
            </a:xfrm>
            <a:prstGeom prst="rect">
              <a:avLst/>
            </a:prstGeom>
            <a:solidFill>
              <a:srgbClr val="ffd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3600360" y="6324480"/>
              <a:ext cx="61920" cy="76320"/>
            </a:xfrm>
            <a:prstGeom prst="rect">
              <a:avLst/>
            </a:prstGeom>
            <a:solidFill>
              <a:srgbClr val="ffd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3539880" y="6324480"/>
              <a:ext cx="60480" cy="76320"/>
            </a:xfrm>
            <a:prstGeom prst="rect">
              <a:avLst/>
            </a:prstGeom>
            <a:solidFill>
              <a:srgbClr val="ffd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477960" y="6324480"/>
              <a:ext cx="61920" cy="76320"/>
            </a:xfrm>
            <a:prstGeom prst="rect">
              <a:avLst/>
            </a:prstGeom>
            <a:solidFill>
              <a:srgbClr val="ffd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3417120" y="6324480"/>
              <a:ext cx="60120" cy="76320"/>
            </a:xfrm>
            <a:prstGeom prst="rect">
              <a:avLst/>
            </a:prstGeom>
            <a:solidFill>
              <a:srgbClr val="ff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355920" y="6324480"/>
              <a:ext cx="61920" cy="76320"/>
            </a:xfrm>
            <a:prstGeom prst="rect">
              <a:avLst/>
            </a:prstGeom>
            <a:solidFill>
              <a:srgbClr val="ffe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3295440" y="6324480"/>
              <a:ext cx="60480" cy="76320"/>
            </a:xfrm>
            <a:prstGeom prst="rect">
              <a:avLst/>
            </a:prstGeom>
            <a:solidFill>
              <a:srgbClr val="ffe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233520" y="6324480"/>
              <a:ext cx="61920" cy="76320"/>
            </a:xfrm>
            <a:prstGeom prst="rect">
              <a:avLst/>
            </a:prstGeom>
            <a:solidFill>
              <a:srgbClr val="ff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172680" y="6324480"/>
              <a:ext cx="60120" cy="76320"/>
            </a:xfrm>
            <a:prstGeom prst="rect">
              <a:avLst/>
            </a:prstGeom>
            <a:solidFill>
              <a:srgbClr val="ff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127320" y="6324480"/>
              <a:ext cx="46080" cy="76320"/>
            </a:xfrm>
            <a:prstGeom prst="rect">
              <a:avLst/>
            </a:prstGeom>
            <a:solidFill>
              <a:srgbClr val="ffe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066840" y="6324480"/>
              <a:ext cx="60480" cy="76320"/>
            </a:xfrm>
            <a:prstGeom prst="rect">
              <a:avLst/>
            </a:prstGeom>
            <a:solidFill>
              <a:srgbClr val="ffe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004920" y="6324480"/>
              <a:ext cx="61920" cy="76320"/>
            </a:xfrm>
            <a:prstGeom prst="rect">
              <a:avLst/>
            </a:prstGeom>
            <a:solidFill>
              <a:srgbClr val="ff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944080" y="6324480"/>
              <a:ext cx="60120" cy="76320"/>
            </a:xfrm>
            <a:prstGeom prst="rect">
              <a:avLst/>
            </a:prstGeom>
            <a:solidFill>
              <a:srgbClr val="ffe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882880" y="6324480"/>
              <a:ext cx="61920" cy="76320"/>
            </a:xfrm>
            <a:prstGeom prst="rect">
              <a:avLst/>
            </a:prstGeom>
            <a:solidFill>
              <a:srgbClr val="ff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2822400" y="6324480"/>
              <a:ext cx="60480" cy="76320"/>
            </a:xfrm>
            <a:prstGeom prst="rect">
              <a:avLst/>
            </a:prstGeom>
            <a:solidFill>
              <a:srgbClr val="ff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760480" y="6324480"/>
              <a:ext cx="61920" cy="76320"/>
            </a:xfrm>
            <a:prstGeom prst="rect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2699640" y="6324480"/>
              <a:ext cx="60120" cy="76320"/>
            </a:xfrm>
            <a:prstGeom prst="rect">
              <a:avLst/>
            </a:prstGeom>
            <a:solidFill>
              <a:srgbClr val="f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638440" y="6324480"/>
              <a:ext cx="61920" cy="76320"/>
            </a:xfrm>
            <a:prstGeom prst="rect">
              <a:avLst/>
            </a:pr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577960" y="6324480"/>
              <a:ext cx="60480" cy="76320"/>
            </a:xfrm>
            <a:prstGeom prst="rect">
              <a:avLst/>
            </a:pr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516040" y="6324480"/>
              <a:ext cx="61920" cy="76320"/>
            </a:xfrm>
            <a:prstGeom prst="rect">
              <a:avLst/>
            </a:prstGeom>
            <a:solidFill>
              <a:srgbClr val="ff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471040" y="6324480"/>
              <a:ext cx="44280" cy="76320"/>
            </a:xfrm>
            <a:prstGeom prst="rect">
              <a:avLst/>
            </a:prstGeom>
            <a:solidFill>
              <a:srgbClr val="ff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409840" y="6324480"/>
              <a:ext cx="61920" cy="76320"/>
            </a:xfrm>
            <a:prstGeom prst="rect">
              <a:avLst/>
            </a:pr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2349360" y="6324480"/>
              <a:ext cx="60480" cy="76320"/>
            </a:xfrm>
            <a:prstGeom prst="rect">
              <a:avLst/>
            </a:pr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287440" y="6324480"/>
              <a:ext cx="61920" cy="76320"/>
            </a:xfrm>
            <a:prstGeom prst="rect">
              <a:avLst/>
            </a:prstGeom>
            <a:solidFill>
              <a:srgbClr val="ff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2226600" y="6324480"/>
              <a:ext cx="60120" cy="76320"/>
            </a:xfrm>
            <a:prstGeom prst="rect">
              <a:avLst/>
            </a:prstGeom>
            <a:solidFill>
              <a:srgbClr val="fff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165400" y="6324480"/>
              <a:ext cx="61920" cy="76320"/>
            </a:xfrm>
            <a:prstGeom prst="rect">
              <a:avLst/>
            </a:pr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104920" y="6324480"/>
              <a:ext cx="60480" cy="76320"/>
            </a:xfrm>
            <a:prstGeom prst="rect">
              <a:avLst/>
            </a:prstGeom>
            <a:solidFill>
              <a:srgbClr val="f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043000" y="6324480"/>
              <a:ext cx="61920" cy="7632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2520" y="6324480"/>
              <a:ext cx="60480" cy="76320"/>
            </a:xfrm>
            <a:prstGeom prst="rect">
              <a:avLst/>
            </a:prstGeom>
            <a:solidFill>
              <a:srgbClr val="ff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920600" y="6324480"/>
              <a:ext cx="61920" cy="76320"/>
            </a:xfrm>
            <a:prstGeom prst="rect">
              <a:avLst/>
            </a:prstGeom>
            <a:solidFill>
              <a:srgbClr val="ff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875600" y="6324480"/>
              <a:ext cx="44280" cy="76320"/>
            </a:xfrm>
            <a:prstGeom prst="rect">
              <a:avLst/>
            </a:prstGeom>
            <a:solidFill>
              <a:srgbClr val="ff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814400" y="6324480"/>
              <a:ext cx="61920" cy="76320"/>
            </a:xfrm>
            <a:prstGeom prst="rect">
              <a:avLst/>
            </a:pr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753920" y="6324480"/>
              <a:ext cx="60480" cy="76320"/>
            </a:xfrm>
            <a:prstGeom prst="rect">
              <a:avLst/>
            </a:prstGeom>
            <a:solidFill>
              <a:srgbClr val="ff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692000" y="6324480"/>
              <a:ext cx="61920" cy="76320"/>
            </a:xfrm>
            <a:prstGeom prst="rect">
              <a:avLst/>
            </a:pr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631160" y="6324480"/>
              <a:ext cx="60120" cy="76320"/>
            </a:xfrm>
            <a:prstGeom prst="rect">
              <a:avLst/>
            </a:pr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1569960" y="6324480"/>
              <a:ext cx="61920" cy="76320"/>
            </a:xfrm>
            <a:prstGeom prst="rect">
              <a:avLst/>
            </a:pr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509480" y="6324480"/>
              <a:ext cx="60480" cy="76320"/>
            </a:xfrm>
            <a:prstGeom prst="rect">
              <a:avLst/>
            </a:prstGeom>
            <a:solidFill>
              <a:srgbClr val="ff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447560" y="6324480"/>
              <a:ext cx="61920" cy="76320"/>
            </a:xfrm>
            <a:prstGeom prst="rect">
              <a:avLst/>
            </a:pr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386720" y="6324480"/>
              <a:ext cx="60120" cy="76320"/>
            </a:xfrm>
            <a:prstGeom prst="rect">
              <a:avLst/>
            </a:pr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325520" y="6324480"/>
              <a:ext cx="61920" cy="7632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265040" y="6324480"/>
              <a:ext cx="60480" cy="7632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218960" y="6324480"/>
              <a:ext cx="46080" cy="7632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158120" y="6324480"/>
              <a:ext cx="60120" cy="76320"/>
            </a:xfrm>
            <a:prstGeom prst="rect">
              <a:avLst/>
            </a:pr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1096920" y="6324480"/>
              <a:ext cx="61920" cy="7632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036440" y="6324480"/>
              <a:ext cx="60480" cy="7632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974520" y="6324480"/>
              <a:ext cx="61920" cy="7632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913680" y="6324480"/>
              <a:ext cx="60120" cy="7632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A703-3E5C-44F1-B498-161DA441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2360" y="6500880"/>
            <a:ext cx="62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H-Wiesba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0640" y="6622920"/>
            <a:ext cx="1289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niversity of Applied Sci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311040"/>
            <a:ext cx="8472600" cy="763560"/>
            <a:chOff x="380880" y="311040"/>
            <a:chExt cx="8472600" cy="763560"/>
          </a:xfrm>
        </p:grpSpPr>
        <p:grpSp>
          <p:nvGrpSpPr>
            <p:cNvPr id="133" name=""/>
            <p:cNvGrpSpPr/>
            <p:nvPr/>
          </p:nvGrpSpPr>
          <p:grpSpPr>
            <a:xfrm>
              <a:off x="380880" y="998640"/>
              <a:ext cx="839880" cy="75960"/>
              <a:chOff x="380880" y="998640"/>
              <a:chExt cx="839880" cy="75960"/>
            </a:xfrm>
          </p:grpSpPr>
          <p:sp>
            <p:nvSpPr>
              <p:cNvPr id="134" name=""/>
              <p:cNvSpPr/>
              <p:nvPr/>
            </p:nvSpPr>
            <p:spPr>
              <a:xfrm>
                <a:off x="380880" y="998640"/>
                <a:ext cx="32040" cy="75960"/>
              </a:xfrm>
              <a:prstGeom prst="rect">
                <a:avLst/>
              </a:prstGeom>
              <a:solidFill>
                <a:srgbClr val="ff0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2920" y="998640"/>
                <a:ext cx="14040" cy="75960"/>
              </a:xfrm>
              <a:prstGeom prst="rect">
                <a:avLst/>
              </a:prstGeom>
              <a:solidFill>
                <a:srgbClr val="ff1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960" y="998640"/>
                <a:ext cx="30240" cy="75960"/>
              </a:xfrm>
              <a:prstGeom prst="rect">
                <a:avLst/>
              </a:prstGeom>
              <a:solidFill>
                <a:srgbClr val="ff2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7200" y="998640"/>
                <a:ext cx="31680" cy="75960"/>
              </a:xfrm>
              <a:prstGeom prst="rect">
                <a:avLst/>
              </a:prstGeom>
              <a:solidFill>
                <a:srgbClr val="ff3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8880" y="998640"/>
                <a:ext cx="30240" cy="75960"/>
              </a:xfrm>
              <a:prstGeom prst="rect">
                <a:avLst/>
              </a:prstGeom>
              <a:solidFill>
                <a:srgbClr val="ff3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9120" y="998640"/>
                <a:ext cx="15840" cy="75960"/>
              </a:xfrm>
              <a:prstGeom prst="rect">
                <a:avLst/>
              </a:prstGeom>
              <a:solidFill>
                <a:srgbClr val="ff46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960" y="998640"/>
                <a:ext cx="30240" cy="75960"/>
              </a:xfrm>
              <a:prstGeom prst="rect">
                <a:avLst/>
              </a:prstGeom>
              <a:solidFill>
                <a:srgbClr val="ff4f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200" y="998640"/>
                <a:ext cx="30240" cy="75960"/>
              </a:xfrm>
              <a:prstGeom prst="rect">
                <a:avLst/>
              </a:prstGeom>
              <a:solidFill>
                <a:srgbClr val="ff5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5440" y="998640"/>
                <a:ext cx="15840" cy="75960"/>
              </a:xfrm>
              <a:prstGeom prst="rect">
                <a:avLst/>
              </a:prstGeom>
              <a:solidFill>
                <a:srgbClr val="ff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1280" y="998640"/>
                <a:ext cx="30240" cy="75960"/>
              </a:xfrm>
              <a:prstGeom prst="rect">
                <a:avLst/>
              </a:prstGeom>
              <a:solidFill>
                <a:srgbClr val="ff6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1520" y="998640"/>
                <a:ext cx="29880" cy="75960"/>
              </a:xfrm>
              <a:prstGeom prst="rect">
                <a:avLst/>
              </a:prstGeom>
              <a:solidFill>
                <a:srgbClr val="ff7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1400" y="998640"/>
                <a:ext cx="30240" cy="75960"/>
              </a:xfrm>
              <a:prstGeom prst="rect">
                <a:avLst/>
              </a:prstGeom>
              <a:solidFill>
                <a:srgbClr val="ff8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1640" y="998640"/>
                <a:ext cx="15840" cy="75960"/>
              </a:xfrm>
              <a:prstGeom prst="rect">
                <a:avLst/>
              </a:prstGeom>
              <a:solidFill>
                <a:srgbClr val="ff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7480" y="998640"/>
                <a:ext cx="30240" cy="75960"/>
              </a:xfrm>
              <a:prstGeom prst="rect">
                <a:avLst/>
              </a:prstGeom>
              <a:solidFill>
                <a:srgbClr val="ff9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7720" y="998640"/>
                <a:ext cx="30240" cy="75960"/>
              </a:xfrm>
              <a:prstGeom prst="rect">
                <a:avLst/>
              </a:prstGeom>
              <a:solidFill>
                <a:srgbClr val="ffa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77960" y="998640"/>
                <a:ext cx="15840" cy="75960"/>
              </a:xfrm>
              <a:prstGeom prst="rect">
                <a:avLst/>
              </a:prstGeom>
              <a:solidFill>
                <a:srgbClr val="ffa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3800" y="998640"/>
                <a:ext cx="30240" cy="75960"/>
              </a:xfrm>
              <a:prstGeom prst="rect">
                <a:avLst/>
              </a:prstGeom>
              <a:solidFill>
                <a:srgbClr val="ff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4040" y="998640"/>
                <a:ext cx="29880" cy="75960"/>
              </a:xfrm>
              <a:prstGeom prst="rect">
                <a:avLst/>
              </a:prstGeom>
              <a:solidFill>
                <a:srgbClr val="ffc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3920" y="998640"/>
                <a:ext cx="32040" cy="75960"/>
              </a:xfrm>
              <a:prstGeom prst="rect">
                <a:avLst/>
              </a:prstGeom>
              <a:solidFill>
                <a:srgbClr val="ff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85960" y="998640"/>
                <a:ext cx="14040" cy="75960"/>
              </a:xfrm>
              <a:prstGeom prst="rect">
                <a:avLst/>
              </a:pr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0000" y="998640"/>
                <a:ext cx="32040" cy="75960"/>
              </a:xfrm>
              <a:prstGeom prst="rect">
                <a:avLst/>
              </a:prstGeom>
              <a:solidFill>
                <a:srgbClr val="ffd7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32040" y="998640"/>
                <a:ext cx="29880" cy="75960"/>
              </a:xfrm>
              <a:prstGeom prst="rect">
                <a:avLst/>
              </a:prstGeom>
              <a:solidFill>
                <a:srgbClr val="ffd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61920" y="998640"/>
                <a:ext cx="30240" cy="75960"/>
              </a:xfrm>
              <a:prstGeom prst="rect">
                <a:avLst/>
              </a:prstGeom>
              <a:solidFill>
                <a:srgbClr val="ff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92160" y="998640"/>
                <a:ext cx="15840" cy="75960"/>
              </a:xfrm>
              <a:prstGeom prst="rect">
                <a:avLst/>
              </a:prstGeom>
              <a:solidFill>
                <a:srgbClr val="ff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08000" y="998640"/>
                <a:ext cx="30240" cy="759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38240" y="998640"/>
                <a:ext cx="30240" cy="75960"/>
              </a:xfrm>
              <a:prstGeom prst="rect">
                <a:avLst/>
              </a:prstGeom>
              <a:solidFill>
                <a:srgbClr val="ff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68480" y="998640"/>
                <a:ext cx="15840" cy="75960"/>
              </a:xfrm>
              <a:prstGeom prst="rect">
                <a:avLst/>
              </a:pr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4320" y="998640"/>
                <a:ext cx="30240" cy="75960"/>
              </a:xfrm>
              <a:prstGeom prst="rect">
                <a:avLst/>
              </a:prstGeom>
              <a:solidFill>
                <a:srgbClr val="ff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14560" y="998640"/>
                <a:ext cx="29880" cy="75960"/>
              </a:xfrm>
              <a:prstGeom prst="rect">
                <a:avLst/>
              </a:pr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44440" y="998640"/>
                <a:ext cx="30240" cy="75960"/>
              </a:xfrm>
              <a:prstGeom prst="rect">
                <a:avLst/>
              </a:pr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74680" y="998640"/>
                <a:ext cx="15840" cy="7596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90520" y="998640"/>
                <a:ext cx="30240" cy="7596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220760" y="311040"/>
              <a:ext cx="7632720" cy="76320"/>
              <a:chOff x="1220760" y="311040"/>
              <a:chExt cx="7632720" cy="76320"/>
            </a:xfrm>
          </p:grpSpPr>
          <p:sp>
            <p:nvSpPr>
              <p:cNvPr id="167" name=""/>
              <p:cNvSpPr/>
              <p:nvPr/>
            </p:nvSpPr>
            <p:spPr>
              <a:xfrm>
                <a:off x="1220760" y="311040"/>
                <a:ext cx="61920" cy="76320"/>
              </a:xfrm>
              <a:prstGeom prst="rect">
                <a:avLst/>
              </a:prstGeom>
              <a:solidFill>
                <a:srgbClr val="ff07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82680" y="311040"/>
                <a:ext cx="60480" cy="76320"/>
              </a:xfrm>
              <a:prstGeom prst="rect">
                <a:avLst/>
              </a:prstGeom>
              <a:solidFill>
                <a:srgbClr val="ff0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43160" y="311040"/>
                <a:ext cx="61920" cy="76320"/>
              </a:xfrm>
              <a:prstGeom prst="rect">
                <a:avLst/>
              </a:prstGeom>
              <a:solidFill>
                <a:srgbClr val="ff11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05080" y="311040"/>
                <a:ext cx="60120" cy="76320"/>
              </a:xfrm>
              <a:prstGeom prst="rect">
                <a:avLst/>
              </a:prstGeom>
              <a:solidFill>
                <a:srgbClr val="ff15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5200" y="311040"/>
                <a:ext cx="61920" cy="76320"/>
              </a:xfrm>
              <a:prstGeom prst="rect">
                <a:avLst/>
              </a:prstGeom>
              <a:solidFill>
                <a:srgbClr val="ff1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7120" y="311040"/>
                <a:ext cx="44640" cy="76320"/>
              </a:xfrm>
              <a:prstGeom prst="rect">
                <a:avLst/>
              </a:prstGeom>
              <a:solidFill>
                <a:srgbClr val="ff1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71760" y="311040"/>
                <a:ext cx="61920" cy="76320"/>
              </a:xfrm>
              <a:prstGeom prst="rect">
                <a:avLst/>
              </a:prstGeom>
              <a:solidFill>
                <a:srgbClr val="ff1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33680" y="311040"/>
                <a:ext cx="60120" cy="76320"/>
              </a:xfrm>
              <a:prstGeom prst="rect">
                <a:avLst/>
              </a:prstGeom>
              <a:solidFill>
                <a:srgbClr val="ff1f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93800" y="311040"/>
                <a:ext cx="61920" cy="76320"/>
              </a:xfrm>
              <a:prstGeom prst="rect">
                <a:avLst/>
              </a:prstGeom>
              <a:solidFill>
                <a:srgbClr val="ff2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5720" y="311040"/>
                <a:ext cx="60480" cy="76320"/>
              </a:xfrm>
              <a:prstGeom prst="rect">
                <a:avLst/>
              </a:prstGeom>
              <a:solidFill>
                <a:srgbClr val="ff2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16200" y="311040"/>
                <a:ext cx="61920" cy="76320"/>
              </a:xfrm>
              <a:prstGeom prst="rect">
                <a:avLst/>
              </a:prstGeom>
              <a:solidFill>
                <a:srgbClr val="ff27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78120" y="311040"/>
                <a:ext cx="60120" cy="76320"/>
              </a:xfrm>
              <a:prstGeom prst="rect">
                <a:avLst/>
              </a:prstGeom>
              <a:solidFill>
                <a:srgbClr val="ff2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38240" y="311040"/>
                <a:ext cx="61920" cy="76320"/>
              </a:xfrm>
              <a:prstGeom prst="rect">
                <a:avLst/>
              </a:prstGeom>
              <a:solidFill>
                <a:srgbClr val="ff2e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00160" y="311040"/>
                <a:ext cx="60480" cy="76320"/>
              </a:xfrm>
              <a:prstGeom prst="rect">
                <a:avLst/>
              </a:prstGeom>
              <a:solidFill>
                <a:srgbClr val="ff3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60640" y="311040"/>
                <a:ext cx="61920" cy="76320"/>
              </a:xfrm>
              <a:prstGeom prst="rect">
                <a:avLst/>
              </a:prstGeom>
              <a:solidFill>
                <a:srgbClr val="ff3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22560" y="311040"/>
                <a:ext cx="44280" cy="76320"/>
              </a:xfrm>
              <a:prstGeom prst="rect">
                <a:avLst/>
              </a:prstGeom>
              <a:solidFill>
                <a:srgbClr val="ff34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66840" y="311040"/>
                <a:ext cx="61920" cy="76320"/>
              </a:xfrm>
              <a:prstGeom prst="rect">
                <a:avLst/>
              </a:prstGeom>
              <a:solidFill>
                <a:srgbClr val="ff36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8760" y="311040"/>
                <a:ext cx="60480" cy="76320"/>
              </a:xfrm>
              <a:prstGeom prst="rect">
                <a:avLst/>
              </a:prstGeom>
              <a:solidFill>
                <a:srgbClr val="ff39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89240" y="311040"/>
                <a:ext cx="61920" cy="76320"/>
              </a:xfrm>
              <a:prstGeom prst="rect">
                <a:avLst/>
              </a:prstGeom>
              <a:solidFill>
                <a:srgbClr val="ff3b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1160" y="311040"/>
                <a:ext cx="60120" cy="76320"/>
              </a:xfrm>
              <a:prstGeom prst="rect">
                <a:avLst/>
              </a:prstGeom>
              <a:solidFill>
                <a:srgbClr val="ff3e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11280" y="311040"/>
                <a:ext cx="61920" cy="76320"/>
              </a:xfrm>
              <a:prstGeom prst="rect">
                <a:avLst/>
              </a:prstGeom>
              <a:solidFill>
                <a:srgbClr val="ff4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73200" y="311040"/>
                <a:ext cx="60480" cy="76320"/>
              </a:xfrm>
              <a:prstGeom prst="rect">
                <a:avLst/>
              </a:prstGeom>
              <a:solidFill>
                <a:srgbClr val="ff4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33680" y="311040"/>
                <a:ext cx="61920" cy="76320"/>
              </a:xfrm>
              <a:prstGeom prst="rect">
                <a:avLst/>
              </a:prstGeom>
              <a:solidFill>
                <a:srgbClr val="ff4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595600" y="311040"/>
                <a:ext cx="60120" cy="76320"/>
              </a:xfrm>
              <a:prstGeom prst="rect">
                <a:avLst/>
              </a:prstGeom>
              <a:solidFill>
                <a:srgbClr val="ff4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55720" y="311040"/>
                <a:ext cx="61920" cy="76320"/>
              </a:xfrm>
              <a:prstGeom prst="rect">
                <a:avLst/>
              </a:prstGeom>
              <a:solidFill>
                <a:srgbClr val="ff4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17640" y="311040"/>
                <a:ext cx="60480" cy="76320"/>
              </a:xfrm>
              <a:prstGeom prst="rect">
                <a:avLst/>
              </a:prstGeom>
              <a:solidFill>
                <a:srgbClr val="ff4f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8120" y="311040"/>
                <a:ext cx="46080" cy="76320"/>
              </a:xfrm>
              <a:prstGeom prst="rect">
                <a:avLst/>
              </a:prstGeom>
              <a:solidFill>
                <a:srgbClr val="ff5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4200" y="311040"/>
                <a:ext cx="60120" cy="76320"/>
              </a:xfrm>
              <a:prstGeom prst="rect">
                <a:avLst/>
              </a:prstGeom>
              <a:solidFill>
                <a:srgbClr val="ff5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84320" y="311040"/>
                <a:ext cx="61920" cy="76320"/>
              </a:xfrm>
              <a:prstGeom prst="rect">
                <a:avLst/>
              </a:prstGeom>
              <a:solidFill>
                <a:srgbClr val="ff5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46240" y="311040"/>
                <a:ext cx="60480" cy="76320"/>
              </a:xfrm>
              <a:prstGeom prst="rect">
                <a:avLst/>
              </a:prstGeom>
              <a:solidFill>
                <a:srgbClr val="ff5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06720" y="311040"/>
                <a:ext cx="61920" cy="76320"/>
              </a:xfrm>
              <a:prstGeom prst="rect">
                <a:avLst/>
              </a:prstGeom>
              <a:solidFill>
                <a:srgbClr val="ff5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68640" y="311040"/>
                <a:ext cx="60480" cy="76320"/>
              </a:xfrm>
              <a:prstGeom prst="rect">
                <a:avLst/>
              </a:prstGeom>
              <a:solidFill>
                <a:srgbClr val="ff5d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29120" y="311040"/>
                <a:ext cx="61920" cy="76320"/>
              </a:xfrm>
              <a:prstGeom prst="rect">
                <a:avLst/>
              </a:prstGeom>
              <a:solidFill>
                <a:srgbClr val="ff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91040" y="311040"/>
                <a:ext cx="60120" cy="76320"/>
              </a:xfrm>
              <a:prstGeom prst="rect">
                <a:avLst/>
              </a:prstGeom>
              <a:solidFill>
                <a:srgbClr val="ff64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51160" y="311040"/>
                <a:ext cx="61920" cy="76320"/>
              </a:xfrm>
              <a:prstGeom prst="rect">
                <a:avLst/>
              </a:prstGeom>
              <a:solidFill>
                <a:srgbClr val="ff67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13080" y="311040"/>
                <a:ext cx="60480" cy="76320"/>
              </a:xfrm>
              <a:prstGeom prst="rect">
                <a:avLst/>
              </a:prstGeom>
              <a:solidFill>
                <a:srgbClr val="ff6a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373560" y="311040"/>
                <a:ext cx="61920" cy="76320"/>
              </a:xfrm>
              <a:prstGeom prst="rect">
                <a:avLst/>
              </a:prstGeom>
              <a:solidFill>
                <a:srgbClr val="ff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5480" y="311040"/>
                <a:ext cx="44280" cy="76320"/>
              </a:xfrm>
              <a:prstGeom prst="rect">
                <a:avLst/>
              </a:prstGeom>
              <a:solidFill>
                <a:srgbClr val="ff6f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79760" y="311040"/>
                <a:ext cx="61920" cy="76320"/>
              </a:xfrm>
              <a:prstGeom prst="rect">
                <a:avLst/>
              </a:prstGeom>
              <a:solidFill>
                <a:srgbClr val="ff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41680" y="311040"/>
                <a:ext cx="60480" cy="76320"/>
              </a:xfrm>
              <a:prstGeom prst="rect">
                <a:avLst/>
              </a:prstGeom>
              <a:solidFill>
                <a:srgbClr val="ff7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02160" y="311040"/>
                <a:ext cx="61920" cy="76320"/>
              </a:xfrm>
              <a:prstGeom prst="rect">
                <a:avLst/>
              </a:prstGeom>
              <a:solidFill>
                <a:srgbClr val="ff76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64080" y="311040"/>
                <a:ext cx="60120" cy="76320"/>
              </a:xfrm>
              <a:prstGeom prst="rect">
                <a:avLst/>
              </a:prstGeom>
              <a:solidFill>
                <a:srgbClr val="ff7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24200" y="311040"/>
                <a:ext cx="61920" cy="76320"/>
              </a:xfrm>
              <a:prstGeom prst="rect">
                <a:avLst/>
              </a:prstGeom>
              <a:solidFill>
                <a:srgbClr val="ff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86120" y="311040"/>
                <a:ext cx="60480" cy="76320"/>
              </a:xfrm>
              <a:prstGeom prst="rect">
                <a:avLst/>
              </a:prstGeom>
              <a:solidFill>
                <a:srgbClr val="ff7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46600" y="311040"/>
                <a:ext cx="61920" cy="76320"/>
              </a:xfrm>
              <a:prstGeom prst="rect">
                <a:avLst/>
              </a:prstGeom>
              <a:solidFill>
                <a:srgbClr val="ff82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08520" y="311040"/>
                <a:ext cx="60120" cy="76320"/>
              </a:xfrm>
              <a:prstGeom prst="rect">
                <a:avLst/>
              </a:prstGeom>
              <a:solidFill>
                <a:srgbClr val="ff8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68640" y="311040"/>
                <a:ext cx="61920" cy="76320"/>
              </a:xfrm>
              <a:prstGeom prst="rect">
                <a:avLst/>
              </a:prstGeom>
              <a:solidFill>
                <a:srgbClr val="ff8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30560" y="311040"/>
                <a:ext cx="44640" cy="76320"/>
              </a:xfrm>
              <a:prstGeom prst="rect">
                <a:avLst/>
              </a:prstGeom>
              <a:solidFill>
                <a:srgbClr val="ff89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75200" y="311040"/>
                <a:ext cx="61920" cy="76320"/>
              </a:xfrm>
              <a:prstGeom prst="rect">
                <a:avLst/>
              </a:prstGeom>
              <a:solidFill>
                <a:srgbClr val="ff8c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37120" y="311040"/>
                <a:ext cx="60120" cy="76320"/>
              </a:xfrm>
              <a:prstGeom prst="rect">
                <a:avLst/>
              </a:prstGeom>
              <a:solidFill>
                <a:srgbClr val="ff8e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97240" y="311040"/>
                <a:ext cx="61920" cy="76320"/>
              </a:xfrm>
              <a:prstGeom prst="rect">
                <a:avLst/>
              </a:prstGeom>
              <a:solidFill>
                <a:srgbClr val="ff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59160" y="311040"/>
                <a:ext cx="60480" cy="76320"/>
              </a:xfrm>
              <a:prstGeom prst="rect">
                <a:avLst/>
              </a:prstGeom>
              <a:solidFill>
                <a:srgbClr val="ff9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19640" y="311040"/>
                <a:ext cx="61920" cy="76320"/>
              </a:xfrm>
              <a:prstGeom prst="rect">
                <a:avLst/>
              </a:prstGeom>
              <a:solidFill>
                <a:srgbClr val="ff9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81560" y="311040"/>
                <a:ext cx="60120" cy="76320"/>
              </a:xfrm>
              <a:prstGeom prst="rect">
                <a:avLst/>
              </a:prstGeom>
              <a:solidFill>
                <a:srgbClr val="ff9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41680" y="311040"/>
                <a:ext cx="61920" cy="76320"/>
              </a:xfrm>
              <a:prstGeom prst="rect">
                <a:avLst/>
              </a:prstGeom>
              <a:solidFill>
                <a:srgbClr val="ff9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03600" y="311040"/>
                <a:ext cx="60480" cy="76320"/>
              </a:xfrm>
              <a:prstGeom prst="rect">
                <a:avLst/>
              </a:prstGeom>
              <a:solidFill>
                <a:srgbClr val="ff9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64080" y="311040"/>
                <a:ext cx="61920" cy="76320"/>
              </a:xfrm>
              <a:prstGeom prst="rect">
                <a:avLst/>
              </a:prstGeom>
              <a:solidFill>
                <a:srgbClr val="ffa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26000" y="311040"/>
                <a:ext cx="60480" cy="76320"/>
              </a:xfrm>
              <a:prstGeom prst="rect">
                <a:avLst/>
              </a:prstGeom>
              <a:solidFill>
                <a:srgbClr val="ffa4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86480" y="311040"/>
                <a:ext cx="45720" cy="76320"/>
              </a:xfrm>
              <a:prstGeom prst="rect">
                <a:avLst/>
              </a:prstGeom>
              <a:solidFill>
                <a:srgbClr val="ffa6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32200" y="311040"/>
                <a:ext cx="60480" cy="76320"/>
              </a:xfrm>
              <a:prstGeom prst="rect">
                <a:avLst/>
              </a:prstGeom>
              <a:solidFill>
                <a:srgbClr val="ff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92680" y="311040"/>
                <a:ext cx="61920" cy="76320"/>
              </a:xfrm>
              <a:prstGeom prst="rect">
                <a:avLst/>
              </a:prstGeom>
              <a:solidFill>
                <a:srgbClr val="ffa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54600" y="311040"/>
                <a:ext cx="60480" cy="76320"/>
              </a:xfrm>
              <a:prstGeom prst="rect">
                <a:avLst/>
              </a:prstGeom>
              <a:solidFill>
                <a:srgbClr val="ffa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15080" y="311040"/>
                <a:ext cx="61560" cy="76320"/>
              </a:xfrm>
              <a:prstGeom prst="rect">
                <a:avLst/>
              </a:prstGeom>
              <a:solidFill>
                <a:srgbClr val="ffb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6640" y="311040"/>
                <a:ext cx="60480" cy="76320"/>
              </a:xfrm>
              <a:prstGeom prst="rect">
                <a:avLst/>
              </a:prstGeom>
              <a:solidFill>
                <a:srgbClr val="ffb2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37120" y="311040"/>
                <a:ext cx="61920" cy="76320"/>
              </a:xfrm>
              <a:prstGeom prst="rect">
                <a:avLst/>
              </a:prstGeom>
              <a:solidFill>
                <a:srgbClr val="ffb6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99040" y="311040"/>
                <a:ext cx="60480" cy="76320"/>
              </a:xfrm>
              <a:prstGeom prst="rect">
                <a:avLst/>
              </a:prstGeom>
              <a:solidFill>
                <a:srgbClr val="ffb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59520" y="311040"/>
                <a:ext cx="61920" cy="76320"/>
              </a:xfrm>
              <a:prstGeom prst="rect">
                <a:avLst/>
              </a:prstGeom>
              <a:solidFill>
                <a:srgbClr val="ffba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21440" y="311040"/>
                <a:ext cx="60120" cy="76320"/>
              </a:xfrm>
              <a:prstGeom prst="rect">
                <a:avLst/>
              </a:prstGeom>
              <a:solidFill>
                <a:srgbClr val="ff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81560" y="311040"/>
                <a:ext cx="61920" cy="76320"/>
              </a:xfrm>
              <a:prstGeom prst="rect">
                <a:avLst/>
              </a:prstGeom>
              <a:solidFill>
                <a:srgbClr val="ffb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43480" y="311040"/>
                <a:ext cx="44640" cy="76320"/>
              </a:xfrm>
              <a:prstGeom prst="rect">
                <a:avLst/>
              </a:prstGeom>
              <a:solidFill>
                <a:srgbClr val="ffc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88120" y="311040"/>
                <a:ext cx="61920" cy="76320"/>
              </a:xfrm>
              <a:prstGeom prst="rect">
                <a:avLst/>
              </a:prstGeom>
              <a:solidFill>
                <a:srgbClr val="ffc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50040" y="311040"/>
                <a:ext cx="60120" cy="76320"/>
              </a:xfrm>
              <a:prstGeom prst="rect">
                <a:avLst/>
              </a:prstGeom>
              <a:solidFill>
                <a:srgbClr val="ffc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10160" y="311040"/>
                <a:ext cx="61920" cy="76320"/>
              </a:xfrm>
              <a:prstGeom prst="rect">
                <a:avLst/>
              </a:prstGeom>
              <a:solidFill>
                <a:srgbClr val="ffc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72080" y="311040"/>
                <a:ext cx="60480" cy="76320"/>
              </a:xfrm>
              <a:prstGeom prst="rect">
                <a:avLst/>
              </a:prstGeom>
              <a:solidFill>
                <a:srgbClr val="ffc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32560" y="311040"/>
                <a:ext cx="61920" cy="76320"/>
              </a:xfrm>
              <a:prstGeom prst="rect">
                <a:avLst/>
              </a:prstGeom>
              <a:solidFill>
                <a:srgbClr val="ff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94480" y="311040"/>
                <a:ext cx="60120" cy="76320"/>
              </a:xfrm>
              <a:prstGeom prst="rect">
                <a:avLst/>
              </a:prstGeom>
              <a:solidFill>
                <a:srgbClr val="ffc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54600" y="311040"/>
                <a:ext cx="61920" cy="76320"/>
              </a:xfrm>
              <a:prstGeom prst="rect">
                <a:avLst/>
              </a:prstGeom>
              <a:solidFill>
                <a:srgbClr val="ffc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16520" y="311040"/>
                <a:ext cx="60480" cy="76320"/>
              </a:xfrm>
              <a:prstGeom prst="rect">
                <a:avLst/>
              </a:pr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77000" y="311040"/>
                <a:ext cx="61920" cy="76320"/>
              </a:xfrm>
              <a:prstGeom prst="rect">
                <a:avLst/>
              </a:prstGeom>
              <a:solidFill>
                <a:srgbClr val="ff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38920" y="311040"/>
                <a:ext cx="44280" cy="76320"/>
              </a:xfrm>
              <a:prstGeom prst="rect">
                <a:avLst/>
              </a:prstGeom>
              <a:solidFill>
                <a:srgbClr val="ff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83200" y="311040"/>
                <a:ext cx="61920" cy="76320"/>
              </a:xfrm>
              <a:prstGeom prst="rect">
                <a:avLst/>
              </a:prstGeom>
              <a:solidFill>
                <a:srgbClr val="ffd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45120" y="311040"/>
                <a:ext cx="60480" cy="76320"/>
              </a:xfrm>
              <a:prstGeom prst="rect">
                <a:avLst/>
              </a:prstGeom>
              <a:solidFill>
                <a:srgbClr val="ffd7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05600" y="311040"/>
                <a:ext cx="61920" cy="76320"/>
              </a:xfrm>
              <a:prstGeom prst="rect">
                <a:avLst/>
              </a:prstGeom>
              <a:solidFill>
                <a:srgbClr val="ff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67520" y="311040"/>
                <a:ext cx="60120" cy="76320"/>
              </a:xfrm>
              <a:prstGeom prst="rect">
                <a:avLst/>
              </a:prstGeom>
              <a:solidFill>
                <a:srgbClr val="ffd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27640" y="311040"/>
                <a:ext cx="61920" cy="76320"/>
              </a:xfrm>
              <a:prstGeom prst="rect">
                <a:avLst/>
              </a:prstGeom>
              <a:solidFill>
                <a:srgbClr val="ff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89560" y="311040"/>
                <a:ext cx="60480" cy="76320"/>
              </a:xfrm>
              <a:prstGeom prst="rect">
                <a:avLst/>
              </a:prstGeom>
              <a:solidFill>
                <a:srgbClr val="ff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50040" y="311040"/>
                <a:ext cx="61920" cy="76320"/>
              </a:xfrm>
              <a:prstGeom prst="rect">
                <a:avLst/>
              </a:prstGeom>
              <a:solidFill>
                <a:srgbClr val="ff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411960" y="311040"/>
                <a:ext cx="60120" cy="76320"/>
              </a:xfrm>
              <a:prstGeom prst="rect">
                <a:avLst/>
              </a:prstGeom>
              <a:solidFill>
                <a:srgbClr val="ff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72080" y="311040"/>
                <a:ext cx="61920" cy="76320"/>
              </a:xfrm>
              <a:prstGeom prst="rect">
                <a:avLst/>
              </a:prstGeom>
              <a:solidFill>
                <a:srgbClr val="ffe3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34000" y="311040"/>
                <a:ext cx="60480" cy="76320"/>
              </a:xfrm>
              <a:prstGeom prst="rect">
                <a:avLst/>
              </a:prstGeom>
              <a:solidFill>
                <a:srgbClr val="ffe4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4480" y="311040"/>
                <a:ext cx="46080" cy="76320"/>
              </a:xfrm>
              <a:prstGeom prst="rect">
                <a:avLst/>
              </a:prstGeom>
              <a:solidFill>
                <a:srgbClr val="ffe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40560" y="311040"/>
                <a:ext cx="60120" cy="76320"/>
              </a:xfrm>
              <a:prstGeom prst="rect">
                <a:avLst/>
              </a:prstGeom>
              <a:solidFill>
                <a:srgbClr val="ff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0680" y="311040"/>
                <a:ext cx="61920" cy="76320"/>
              </a:xfrm>
              <a:prstGeom prst="rect">
                <a:avLst/>
              </a:prstGeom>
              <a:solidFill>
                <a:srgbClr val="ff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62600" y="311040"/>
                <a:ext cx="60480" cy="76320"/>
              </a:xfrm>
              <a:prstGeom prst="rect">
                <a:avLst/>
              </a:prstGeom>
              <a:solidFill>
                <a:srgbClr val="ffe9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23080" y="311040"/>
                <a:ext cx="61920" cy="76320"/>
              </a:xfrm>
              <a:prstGeom prst="rect">
                <a:avLst/>
              </a:prstGeom>
              <a:solidFill>
                <a:srgbClr val="ffea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85000" y="311040"/>
                <a:ext cx="60480" cy="76320"/>
              </a:xfrm>
              <a:prstGeom prst="rect">
                <a:avLst/>
              </a:prstGeom>
              <a:solidFill>
                <a:srgbClr val="ff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45480" y="311040"/>
                <a:ext cx="61920" cy="76320"/>
              </a:xfrm>
              <a:prstGeom prst="rect">
                <a:avLst/>
              </a:pr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07400" y="311040"/>
                <a:ext cx="60120" cy="76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67520" y="311040"/>
                <a:ext cx="61920" cy="76320"/>
              </a:xfrm>
              <a:prstGeom prst="rect">
                <a:avLst/>
              </a:prstGeom>
              <a:solidFill>
                <a:srgbClr val="f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29440" y="311040"/>
                <a:ext cx="60480" cy="76320"/>
              </a:xfrm>
              <a:prstGeom prst="rect">
                <a:avLst/>
              </a:prstGeom>
              <a:solidFill>
                <a:srgbClr val="ff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189920" y="311040"/>
                <a:ext cx="61920" cy="76320"/>
              </a:xfrm>
              <a:prstGeom prst="rect">
                <a:avLst/>
              </a:prstGeom>
              <a:solidFill>
                <a:srgbClr val="ff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51840" y="311040"/>
                <a:ext cx="44280" cy="76320"/>
              </a:xfrm>
              <a:prstGeom prst="rect">
                <a:avLst/>
              </a:prstGeom>
              <a:solidFill>
                <a:srgbClr val="ff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96120" y="311040"/>
                <a:ext cx="61920" cy="76320"/>
              </a:xfrm>
              <a:prstGeom prst="rect">
                <a:avLst/>
              </a:prstGeom>
              <a:solidFill>
                <a:srgbClr val="ff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58040" y="311040"/>
                <a:ext cx="60480" cy="76320"/>
              </a:xfrm>
              <a:prstGeom prst="rect">
                <a:avLst/>
              </a:pr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18520" y="311040"/>
                <a:ext cx="61920" cy="76320"/>
              </a:xfrm>
              <a:prstGeom prst="rect">
                <a:avLst/>
              </a:prstGeom>
              <a:solidFill>
                <a:srgbClr val="ff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80440" y="311040"/>
                <a:ext cx="60120" cy="76320"/>
              </a:xfrm>
              <a:prstGeom prst="rect">
                <a:avLst/>
              </a:prstGeom>
              <a:solidFill>
                <a:srgbClr val="fff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40560" y="311040"/>
                <a:ext cx="61920" cy="76320"/>
              </a:xfrm>
              <a:prstGeom prst="rect">
                <a:avLst/>
              </a:pr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02480" y="311040"/>
                <a:ext cx="60480" cy="76320"/>
              </a:xfrm>
              <a:prstGeom prst="rect">
                <a:avLst/>
              </a:pr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62960" y="311040"/>
                <a:ext cx="61920" cy="76320"/>
              </a:xfrm>
              <a:prstGeom prst="rect">
                <a:avLst/>
              </a:prstGeom>
              <a:solidFill>
                <a:srgbClr val="ff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24880" y="311040"/>
                <a:ext cx="60120" cy="76320"/>
              </a:xfrm>
              <a:prstGeom prst="rect">
                <a:avLst/>
              </a:prstGeom>
              <a:solidFill>
                <a:srgbClr val="ff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85000" y="311040"/>
                <a:ext cx="61920" cy="76320"/>
              </a:xfrm>
              <a:prstGeom prst="rect">
                <a:avLst/>
              </a:prstGeom>
              <a:solidFill>
                <a:srgbClr val="ff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46920" y="311040"/>
                <a:ext cx="44640" cy="76320"/>
              </a:xfrm>
              <a:prstGeom prst="rect">
                <a:avLst/>
              </a:prstGeom>
              <a:solidFill>
                <a:srgbClr val="ff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91560" y="311040"/>
                <a:ext cx="61920" cy="76320"/>
              </a:xfrm>
              <a:prstGeom prst="rect">
                <a:avLst/>
              </a:pr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53480" y="311040"/>
                <a:ext cx="60120" cy="76320"/>
              </a:xfrm>
              <a:prstGeom prst="rect">
                <a:avLst/>
              </a:prstGeom>
              <a:solidFill>
                <a:srgbClr val="ff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13600" y="311040"/>
                <a:ext cx="61920" cy="76320"/>
              </a:xfrm>
              <a:prstGeom prst="rect">
                <a:avLst/>
              </a:pr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75520" y="311040"/>
                <a:ext cx="60480" cy="76320"/>
              </a:xfrm>
              <a:prstGeom prst="rect">
                <a:avLst/>
              </a:pr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36000" y="311040"/>
                <a:ext cx="61920" cy="76320"/>
              </a:xfrm>
              <a:prstGeom prst="rect">
                <a:avLst/>
              </a:pr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197920" y="311040"/>
                <a:ext cx="60120" cy="76320"/>
              </a:xfrm>
              <a:prstGeom prst="rect">
                <a:avLst/>
              </a:prstGeom>
              <a:solidFill>
                <a:srgbClr val="ff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58040" y="311040"/>
                <a:ext cx="61920" cy="76320"/>
              </a:xfrm>
              <a:prstGeom prst="rect">
                <a:avLst/>
              </a:pr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19960" y="311040"/>
                <a:ext cx="60480" cy="76320"/>
              </a:xfrm>
              <a:prstGeom prst="rect">
                <a:avLst/>
              </a:pr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380440" y="311040"/>
                <a:ext cx="61920" cy="7632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442360" y="311040"/>
                <a:ext cx="60120" cy="7632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502480" y="311040"/>
                <a:ext cx="46080" cy="7632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548560" y="311040"/>
                <a:ext cx="60480" cy="76320"/>
              </a:xfrm>
              <a:prstGeom prst="rect">
                <a:avLst/>
              </a:pr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609040" y="311040"/>
                <a:ext cx="61920" cy="7632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670960" y="311040"/>
                <a:ext cx="60120" cy="7632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731080" y="311040"/>
                <a:ext cx="61920" cy="7632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793000" y="311040"/>
                <a:ext cx="60480" cy="76320"/>
              </a:xfrm>
              <a:prstGeom prst="rect">
                <a:avLst/>
              </a:pr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811080" y="6289560"/>
            <a:ext cx="435240" cy="497160"/>
            <a:chOff x="811080" y="6289560"/>
            <a:chExt cx="435240" cy="497160"/>
          </a:xfrm>
        </p:grpSpPr>
        <p:sp>
          <p:nvSpPr>
            <p:cNvPr id="296" name=""/>
            <p:cNvSpPr/>
            <p:nvPr/>
          </p:nvSpPr>
          <p:spPr>
            <a:xfrm>
              <a:off x="952560" y="6289560"/>
              <a:ext cx="293760" cy="262080"/>
            </a:xfrm>
            <a:custGeom>
              <a:avLst/>
              <a:gdLst/>
              <a:ahLst/>
              <a:rect l="l" t="t" r="r" b="b"/>
              <a:pathLst>
                <a:path w="185" h="165">
                  <a:moveTo>
                    <a:pt x="150" y="165"/>
                  </a:moveTo>
                  <a:lnTo>
                    <a:pt x="185" y="121"/>
                  </a:lnTo>
                  <a:lnTo>
                    <a:pt x="35" y="0"/>
                  </a:lnTo>
                  <a:lnTo>
                    <a:pt x="0" y="45"/>
                  </a:lnTo>
                  <a:lnTo>
                    <a:pt x="15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1080" y="6356520"/>
              <a:ext cx="160560" cy="191880"/>
            </a:xfrm>
            <a:custGeom>
              <a:avLst/>
              <a:gdLst/>
              <a:ahLst/>
              <a:rect l="l" t="t" r="r" b="b"/>
              <a:pathLst>
                <a:path w="101" h="121">
                  <a:moveTo>
                    <a:pt x="92" y="0"/>
                  </a:moveTo>
                  <a:lnTo>
                    <a:pt x="0" y="113"/>
                  </a:lnTo>
                  <a:lnTo>
                    <a:pt x="10" y="121"/>
                  </a:lnTo>
                  <a:lnTo>
                    <a:pt x="101" y="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6880" y="652320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3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6880" y="65786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42840" y="646416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42840" y="6523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42840" y="6578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42840" y="6637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19160" y="6523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19160" y="6578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9160" y="6637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19160" y="669276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95480" y="6523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95480" y="6578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95480" y="6637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6748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9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7566480" y="6500880"/>
            <a:ext cx="68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dtke,Schno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.Y. Nov.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375920" y="609480"/>
            <a:ext cx="677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43rd SMPTE Conferenc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ew York Nov.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18000" y="3962520"/>
            <a:ext cx="53226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f Hedt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thias Schno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H - Wiesbaden University of Applied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: hedtke@ite.fh-wiesbade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8040" y="2055960"/>
            <a:ext cx="6741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rchitectures for MPEG-2 Trans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rom the Production Format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PEG-4 Video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 flipH="1">
            <a:off x="674280" y="1827360"/>
            <a:ext cx="91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44800" y="1827360"/>
            <a:ext cx="137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357800" y="1442880"/>
            <a:ext cx="0" cy="4943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373400" y="609480"/>
            <a:ext cx="326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sic Transc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47640" y="1438200"/>
            <a:ext cx="7794720" cy="4948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38280" y="1963800"/>
            <a:ext cx="370368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76040" y="2584440"/>
            <a:ext cx="513000" cy="138240"/>
          </a:xfrm>
          <a:prstGeom prst="rightArrow">
            <a:avLst>
              <a:gd name="adj1" fmla="val 50000"/>
              <a:gd name="adj2" fmla="val 18556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19280" y="2228760"/>
            <a:ext cx="85536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582560" y="2620800"/>
            <a:ext cx="29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882800" y="2228760"/>
            <a:ext cx="85248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744640" y="2620800"/>
            <a:ext cx="290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044880" y="2228760"/>
            <a:ext cx="85572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908520" y="2620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434960" y="1550880"/>
            <a:ext cx="203832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-2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356000" y="1963800"/>
            <a:ext cx="4052880" cy="1822320"/>
          </a:xfrm>
          <a:prstGeom prst="rect">
            <a:avLst/>
          </a:prstGeom>
          <a:solidFill>
            <a:srgbClr val="fed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46760" y="2192400"/>
            <a:ext cx="7538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707080" y="2570040"/>
            <a:ext cx="25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972040" y="2192400"/>
            <a:ext cx="7574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737400" y="257004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343640" y="2192400"/>
            <a:ext cx="7574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59160" y="2502000"/>
            <a:ext cx="155520" cy="23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22600" y="2637000"/>
            <a:ext cx="51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4347720" y="1827360"/>
            <a:ext cx="156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11880" y="1827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1689120"/>
            <a:ext cx="6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520120" y="2131920"/>
            <a:ext cx="6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3065400" y="1968120"/>
            <a:ext cx="2730600" cy="1333440"/>
            <a:chOff x="3065400" y="1968120"/>
            <a:chExt cx="2730600" cy="1333440"/>
          </a:xfrm>
        </p:grpSpPr>
        <p:sp>
          <p:nvSpPr>
            <p:cNvPr id="1710" name=""/>
            <p:cNvSpPr/>
            <p:nvPr/>
          </p:nvSpPr>
          <p:spPr>
            <a:xfrm flipV="1">
              <a:off x="3065400" y="2018880"/>
              <a:ext cx="965160" cy="128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4830840" y="1968120"/>
              <a:ext cx="965160" cy="128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8142120" y="2521080"/>
            <a:ext cx="513000" cy="137880"/>
          </a:xfrm>
          <a:prstGeom prst="rightArrow">
            <a:avLst>
              <a:gd name="adj1" fmla="val 50000"/>
              <a:gd name="adj2" fmla="val 18604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1962000" y="3543480"/>
            <a:ext cx="4846680" cy="1658880"/>
            <a:chOff x="1962000" y="3543480"/>
            <a:chExt cx="4846680" cy="1658880"/>
          </a:xfrm>
        </p:grpSpPr>
        <p:grpSp>
          <p:nvGrpSpPr>
            <p:cNvPr id="1714" name=""/>
            <p:cNvGrpSpPr/>
            <p:nvPr/>
          </p:nvGrpSpPr>
          <p:grpSpPr>
            <a:xfrm>
              <a:off x="1962000" y="3543480"/>
              <a:ext cx="4846680" cy="1658880"/>
              <a:chOff x="1962000" y="3543480"/>
              <a:chExt cx="4846680" cy="1658880"/>
            </a:xfrm>
          </p:grpSpPr>
          <p:sp>
            <p:nvSpPr>
              <p:cNvPr id="1715" name=""/>
              <p:cNvSpPr/>
              <p:nvPr/>
            </p:nvSpPr>
            <p:spPr>
              <a:xfrm>
                <a:off x="3682800" y="3543480"/>
                <a:ext cx="1282680" cy="698400"/>
              </a:xfrm>
              <a:prstGeom prst="downArrow">
                <a:avLst>
                  <a:gd name="adj1" fmla="val 48019"/>
                  <a:gd name="adj2" fmla="val 5409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479680" y="4403880"/>
                <a:ext cx="855720" cy="788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LC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522760" y="4427640"/>
                <a:ext cx="757440" cy="754200"/>
              </a:xfrm>
              <a:prstGeom prst="rect">
                <a:avLst/>
              </a:prstGeom>
              <a:solidFill>
                <a:srgbClr val="ff5b5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L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922560" y="4413240"/>
                <a:ext cx="852480" cy="789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flipV="1" rot="5400000">
                <a:off x="3969360" y="4388760"/>
                <a:ext cx="781200" cy="836640"/>
              </a:xfrm>
              <a:prstGeom prst="rtTriangle">
                <a:avLst/>
              </a:prstGeom>
              <a:solidFill>
                <a:srgbClr val="ff5b5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022640" y="4462560"/>
                <a:ext cx="47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962000" y="4775400"/>
                <a:ext cx="513000" cy="137880"/>
              </a:xfrm>
              <a:prstGeom prst="rightArrow">
                <a:avLst>
                  <a:gd name="adj1" fmla="val 50000"/>
                  <a:gd name="adj2" fmla="val 18604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296040" y="4775400"/>
                <a:ext cx="512640" cy="137880"/>
              </a:xfrm>
              <a:prstGeom prst="rightArrow">
                <a:avLst>
                  <a:gd name="adj1" fmla="val 50000"/>
                  <a:gd name="adj2" fmla="val 18591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327480" y="4862520"/>
                <a:ext cx="59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775040" y="4862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3767040" y="412920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caling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6" name=""/>
          <p:cNvSpPr/>
          <p:nvPr/>
        </p:nvSpPr>
        <p:spPr>
          <a:xfrm>
            <a:off x="5479200" y="1522440"/>
            <a:ext cx="2039760" cy="366840"/>
          </a:xfrm>
          <a:prstGeom prst="rect">
            <a:avLst/>
          </a:prstGeom>
          <a:solidFill>
            <a:srgbClr val="ffd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PEG-4 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1409760" y="1549440"/>
            <a:ext cx="6273720" cy="3835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409760" y="1547640"/>
            <a:ext cx="626904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409760" y="4425840"/>
            <a:ext cx="626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409760" y="3473280"/>
            <a:ext cx="626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409760" y="2509920"/>
            <a:ext cx="6269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409760" y="1547640"/>
            <a:ext cx="6269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0508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0040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09572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99284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88816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78348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7880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409760" y="1547640"/>
            <a:ext cx="626904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409760" y="1547640"/>
            <a:ext cx="1440" cy="384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380960" y="53881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380960" y="44258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380960" y="347328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380960" y="25099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80960" y="154764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409760" y="5388120"/>
            <a:ext cx="6269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140976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159084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177156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194328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12400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30508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48616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6688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83860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01932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320040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38148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356220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373392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391464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409572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427680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445932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463068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481176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99284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517356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535464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552600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570708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588816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606888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624996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642132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660240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678348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696420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714528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731664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7497720" y="5387760"/>
            <a:ext cx="180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7678800" y="5387760"/>
            <a:ext cx="14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140976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230508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320040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409572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99284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588816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678348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7678800" y="5387760"/>
            <a:ext cx="144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400040" y="164304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0" y="0"/>
                </a:moveTo>
                <a:lnTo>
                  <a:pt x="60" y="60"/>
                </a:lnTo>
                <a:lnTo>
                  <a:pt x="78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542960" y="179532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619280" y="188136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0" y="0"/>
                </a:moveTo>
                <a:lnTo>
                  <a:pt x="60" y="60"/>
                </a:lnTo>
                <a:lnTo>
                  <a:pt x="78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762200" y="203364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838160" y="211932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0" y="0"/>
                </a:moveTo>
                <a:lnTo>
                  <a:pt x="60" y="60"/>
                </a:lnTo>
                <a:lnTo>
                  <a:pt x="78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981080" y="227160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057400" y="235728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0" y="0"/>
                </a:moveTo>
                <a:lnTo>
                  <a:pt x="60" y="60"/>
                </a:lnTo>
                <a:lnTo>
                  <a:pt x="78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200320" y="250992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286000" y="2595600"/>
            <a:ext cx="114480" cy="104760"/>
          </a:xfrm>
          <a:custGeom>
            <a:avLst/>
            <a:gdLst/>
            <a:ahLst/>
            <a:rect l="l" t="t" r="r" b="b"/>
            <a:pathLst>
              <a:path w="72" h="66">
                <a:moveTo>
                  <a:pt x="0" y="0"/>
                </a:moveTo>
                <a:lnTo>
                  <a:pt x="54" y="60"/>
                </a:lnTo>
                <a:lnTo>
                  <a:pt x="72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428920" y="2747880"/>
            <a:ext cx="4752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0"/>
                </a:moveTo>
                <a:lnTo>
                  <a:pt x="12" y="18"/>
                </a:lnTo>
                <a:lnTo>
                  <a:pt x="30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505240" y="2833560"/>
            <a:ext cx="114120" cy="104760"/>
          </a:xfrm>
          <a:custGeom>
            <a:avLst/>
            <a:gdLst/>
            <a:ahLst/>
            <a:rect l="l" t="t" r="r" b="b"/>
            <a:pathLst>
              <a:path w="72" h="66">
                <a:moveTo>
                  <a:pt x="0" y="0"/>
                </a:moveTo>
                <a:lnTo>
                  <a:pt x="54" y="60"/>
                </a:lnTo>
                <a:lnTo>
                  <a:pt x="72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2647800" y="298620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724120" y="3071880"/>
            <a:ext cx="114480" cy="104760"/>
          </a:xfrm>
          <a:custGeom>
            <a:avLst/>
            <a:gdLst/>
            <a:ahLst/>
            <a:rect l="l" t="t" r="r" b="b"/>
            <a:pathLst>
              <a:path w="72" h="66">
                <a:moveTo>
                  <a:pt x="0" y="0"/>
                </a:moveTo>
                <a:lnTo>
                  <a:pt x="54" y="60"/>
                </a:lnTo>
                <a:lnTo>
                  <a:pt x="72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867040" y="322416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943360" y="331164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0" y="0"/>
                </a:moveTo>
                <a:lnTo>
                  <a:pt x="60" y="60"/>
                </a:lnTo>
                <a:lnTo>
                  <a:pt x="78" y="66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086280" y="3463920"/>
            <a:ext cx="5688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62240" y="3549600"/>
            <a:ext cx="57240" cy="38160"/>
          </a:xfrm>
          <a:custGeom>
            <a:avLst/>
            <a:gdLst/>
            <a:ahLst/>
            <a:rect l="l" t="t" r="r" b="b"/>
            <a:pathLst>
              <a:path w="36" h="24">
                <a:moveTo>
                  <a:pt x="0" y="0"/>
                </a:moveTo>
                <a:lnTo>
                  <a:pt x="18" y="18"/>
                </a:lnTo>
                <a:lnTo>
                  <a:pt x="36" y="24"/>
                </a:lnTo>
                <a:lnTo>
                  <a:pt x="18" y="6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181320" y="3559320"/>
            <a:ext cx="142920" cy="56880"/>
          </a:xfrm>
          <a:custGeom>
            <a:avLst/>
            <a:gdLst/>
            <a:ahLst/>
            <a:rect l="l" t="t" r="r" b="b"/>
            <a:pathLst>
              <a:path w="90" h="36">
                <a:moveTo>
                  <a:pt x="0" y="12"/>
                </a:moveTo>
                <a:lnTo>
                  <a:pt x="84" y="36"/>
                </a:lnTo>
                <a:lnTo>
                  <a:pt x="90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1480" y="3616200"/>
            <a:ext cx="47520" cy="288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495600" y="3645000"/>
            <a:ext cx="142920" cy="47520"/>
          </a:xfrm>
          <a:custGeom>
            <a:avLst/>
            <a:gdLst/>
            <a:ahLst/>
            <a:rect l="l" t="t" r="r" b="b"/>
            <a:pathLst>
              <a:path w="90" h="30">
                <a:moveTo>
                  <a:pt x="0" y="12"/>
                </a:moveTo>
                <a:lnTo>
                  <a:pt x="84" y="30"/>
                </a:lnTo>
                <a:lnTo>
                  <a:pt x="90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695760" y="3692520"/>
            <a:ext cx="4752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809880" y="3720960"/>
            <a:ext cx="133560" cy="57240"/>
          </a:xfrm>
          <a:custGeom>
            <a:avLst/>
            <a:gdLst/>
            <a:ahLst/>
            <a:rect l="l" t="t" r="r" b="b"/>
            <a:pathLst>
              <a:path w="84" h="36">
                <a:moveTo>
                  <a:pt x="0" y="12"/>
                </a:moveTo>
                <a:lnTo>
                  <a:pt x="78" y="36"/>
                </a:lnTo>
                <a:lnTo>
                  <a:pt x="84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010040" y="3778200"/>
            <a:ext cx="47520" cy="288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124160" y="3807000"/>
            <a:ext cx="133560" cy="56880"/>
          </a:xfrm>
          <a:custGeom>
            <a:avLst/>
            <a:gdLst/>
            <a:ahLst/>
            <a:rect l="l" t="t" r="r" b="b"/>
            <a:pathLst>
              <a:path w="84" h="36">
                <a:moveTo>
                  <a:pt x="0" y="12"/>
                </a:moveTo>
                <a:lnTo>
                  <a:pt x="78" y="36"/>
                </a:lnTo>
                <a:lnTo>
                  <a:pt x="84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324320" y="3863880"/>
            <a:ext cx="49320" cy="288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12"/>
                </a:moveTo>
                <a:lnTo>
                  <a:pt x="25" y="18"/>
                </a:lnTo>
                <a:lnTo>
                  <a:pt x="31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440240" y="3892680"/>
            <a:ext cx="133200" cy="47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12"/>
                </a:moveTo>
                <a:lnTo>
                  <a:pt x="78" y="30"/>
                </a:lnTo>
                <a:lnTo>
                  <a:pt x="8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40400" y="3940200"/>
            <a:ext cx="4752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754520" y="3968640"/>
            <a:ext cx="133560" cy="57240"/>
          </a:xfrm>
          <a:custGeom>
            <a:avLst/>
            <a:gdLst/>
            <a:ahLst/>
            <a:rect l="l" t="t" r="r" b="b"/>
            <a:pathLst>
              <a:path w="84" h="36">
                <a:moveTo>
                  <a:pt x="0" y="12"/>
                </a:moveTo>
                <a:lnTo>
                  <a:pt x="78" y="36"/>
                </a:lnTo>
                <a:lnTo>
                  <a:pt x="84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954680" y="4025880"/>
            <a:ext cx="4752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973760" y="4035600"/>
            <a:ext cx="142920" cy="47520"/>
          </a:xfrm>
          <a:custGeom>
            <a:avLst/>
            <a:gdLst/>
            <a:ahLst/>
            <a:rect l="l" t="t" r="r" b="b"/>
            <a:pathLst>
              <a:path w="90" h="30">
                <a:moveTo>
                  <a:pt x="0" y="12"/>
                </a:moveTo>
                <a:lnTo>
                  <a:pt x="84" y="30"/>
                </a:lnTo>
                <a:lnTo>
                  <a:pt x="90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173560" y="4083120"/>
            <a:ext cx="4788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288040" y="4111560"/>
            <a:ext cx="142920" cy="57240"/>
          </a:xfrm>
          <a:custGeom>
            <a:avLst/>
            <a:gdLst/>
            <a:ahLst/>
            <a:rect l="l" t="t" r="r" b="b"/>
            <a:pathLst>
              <a:path w="90" h="36">
                <a:moveTo>
                  <a:pt x="0" y="12"/>
                </a:moveTo>
                <a:lnTo>
                  <a:pt x="84" y="36"/>
                </a:lnTo>
                <a:lnTo>
                  <a:pt x="90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497560" y="416880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0" y="12"/>
                </a:moveTo>
                <a:lnTo>
                  <a:pt x="18" y="18"/>
                </a:lnTo>
                <a:lnTo>
                  <a:pt x="2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602320" y="4197240"/>
            <a:ext cx="142920" cy="47880"/>
          </a:xfrm>
          <a:custGeom>
            <a:avLst/>
            <a:gdLst/>
            <a:ahLst/>
            <a:rect l="l" t="t" r="r" b="b"/>
            <a:pathLst>
              <a:path w="90" h="30">
                <a:moveTo>
                  <a:pt x="0" y="12"/>
                </a:moveTo>
                <a:lnTo>
                  <a:pt x="84" y="30"/>
                </a:lnTo>
                <a:lnTo>
                  <a:pt x="90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811840" y="4245120"/>
            <a:ext cx="4752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916600" y="4273560"/>
            <a:ext cx="142920" cy="57240"/>
          </a:xfrm>
          <a:custGeom>
            <a:avLst/>
            <a:gdLst/>
            <a:ahLst/>
            <a:rect l="l" t="t" r="r" b="b"/>
            <a:pathLst>
              <a:path w="90" h="36">
                <a:moveTo>
                  <a:pt x="0" y="12"/>
                </a:moveTo>
                <a:lnTo>
                  <a:pt x="84" y="36"/>
                </a:lnTo>
                <a:lnTo>
                  <a:pt x="90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126120" y="4330800"/>
            <a:ext cx="4752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6240600" y="4349880"/>
            <a:ext cx="133200" cy="56880"/>
          </a:xfrm>
          <a:custGeom>
            <a:avLst/>
            <a:gdLst/>
            <a:ahLst/>
            <a:rect l="l" t="t" r="r" b="b"/>
            <a:pathLst>
              <a:path w="84" h="36">
                <a:moveTo>
                  <a:pt x="0" y="12"/>
                </a:moveTo>
                <a:lnTo>
                  <a:pt x="78" y="36"/>
                </a:lnTo>
                <a:lnTo>
                  <a:pt x="84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440400" y="4406760"/>
            <a:ext cx="47880" cy="288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554880" y="4435560"/>
            <a:ext cx="133200" cy="47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12"/>
                </a:moveTo>
                <a:lnTo>
                  <a:pt x="78" y="30"/>
                </a:lnTo>
                <a:lnTo>
                  <a:pt x="8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754680" y="448308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0" y="12"/>
                </a:moveTo>
                <a:lnTo>
                  <a:pt x="18" y="18"/>
                </a:lnTo>
                <a:lnTo>
                  <a:pt x="2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200400" y="3492360"/>
            <a:ext cx="1792440" cy="600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92840" y="4092480"/>
            <a:ext cx="1790640" cy="419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352520" y="1614600"/>
            <a:ext cx="12384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 flipV="1">
            <a:off x="1362240" y="16239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9760" y="1671480"/>
            <a:ext cx="47520" cy="478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1362240" y="1671480"/>
            <a:ext cx="47520" cy="478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409760" y="16239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143160" y="3511440"/>
            <a:ext cx="12384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 flipV="1">
            <a:off x="3152880" y="35211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00400" y="356868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152880" y="356868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3200400" y="35211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935600" y="3987720"/>
            <a:ext cx="12384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 flipV="1">
            <a:off x="4944600" y="3997440"/>
            <a:ext cx="4788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992840" y="40449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4944600" y="4044960"/>
            <a:ext cx="4788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4992840" y="399744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726240" y="4444920"/>
            <a:ext cx="12384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 flipV="1">
            <a:off x="6735240" y="4454640"/>
            <a:ext cx="4788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783480" y="450216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6735240" y="4502160"/>
            <a:ext cx="4788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6783480" y="4454640"/>
            <a:ext cx="47520" cy="475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143160" y="3435480"/>
            <a:ext cx="104760" cy="104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935600" y="4035600"/>
            <a:ext cx="104760" cy="104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726240" y="4454640"/>
            <a:ext cx="104760" cy="104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276200" y="532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276200" y="4359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276200" y="3406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276200" y="2443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276200" y="1481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38096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27628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17160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06692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96368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85900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75432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50000" y="547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03400" y="5692680"/>
            <a:ext cx="19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quant-Scale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rot="16200000">
            <a:off x="231120" y="3168000"/>
            <a:ext cx="160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rate [MBit/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676600" y="2490840"/>
            <a:ext cx="247788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651400" y="2462040"/>
            <a:ext cx="3371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iginal:  Mobile and Calend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848040" y="3473280"/>
            <a:ext cx="1544760" cy="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849480" y="3394080"/>
            <a:ext cx="1489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riginal: Ki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3543480" y="3492360"/>
            <a:ext cx="218520" cy="104760"/>
            <a:chOff x="3543480" y="3492360"/>
            <a:chExt cx="218520" cy="104760"/>
          </a:xfrm>
        </p:grpSpPr>
        <p:sp>
          <p:nvSpPr>
            <p:cNvPr id="1878" name=""/>
            <p:cNvSpPr/>
            <p:nvPr/>
          </p:nvSpPr>
          <p:spPr>
            <a:xfrm flipH="1">
              <a:off x="3619080" y="3549600"/>
              <a:ext cx="1429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543480" y="349236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2390760" y="2557440"/>
            <a:ext cx="295200" cy="104760"/>
            <a:chOff x="2390760" y="2557440"/>
            <a:chExt cx="295200" cy="104760"/>
          </a:xfrm>
        </p:grpSpPr>
        <p:sp>
          <p:nvSpPr>
            <p:cNvPr id="1881" name=""/>
            <p:cNvSpPr/>
            <p:nvPr/>
          </p:nvSpPr>
          <p:spPr>
            <a:xfrm flipH="1">
              <a:off x="2467080" y="2614680"/>
              <a:ext cx="2188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390760" y="2557440"/>
              <a:ext cx="9540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0" y="36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1397160" y="1663560"/>
            <a:ext cx="5359320" cy="2819520"/>
          </a:xfrm>
          <a:custGeom>
            <a:avLst/>
            <a:gdLst/>
            <a:ahLst/>
            <a:rect l="l" t="t" r="r" b="b"/>
            <a:pathLst>
              <a:path w="3376" h="1776">
                <a:moveTo>
                  <a:pt x="0" y="0"/>
                </a:moveTo>
                <a:lnTo>
                  <a:pt x="1144" y="1216"/>
                </a:lnTo>
                <a:lnTo>
                  <a:pt x="3376" y="1776"/>
                </a:ln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356480" y="64764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atarate  Sc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96080" y="4487760"/>
            <a:ext cx="895320" cy="75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81680" y="4532400"/>
            <a:ext cx="895320" cy="822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/>
          <p:nvPr/>
        </p:nvSpPr>
        <p:spPr>
          <a:xfrm flipH="1">
            <a:off x="674280" y="1827360"/>
            <a:ext cx="919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944800" y="1827360"/>
            <a:ext cx="137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357800" y="1442880"/>
            <a:ext cx="0" cy="4943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373400" y="609480"/>
            <a:ext cx="326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sic Transc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47640" y="1438200"/>
            <a:ext cx="7794720" cy="4948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8280" y="1963800"/>
            <a:ext cx="370368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76040" y="2584440"/>
            <a:ext cx="513000" cy="138240"/>
          </a:xfrm>
          <a:prstGeom prst="rightArrow">
            <a:avLst>
              <a:gd name="adj1" fmla="val 50000"/>
              <a:gd name="adj2" fmla="val 18556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19280" y="2228760"/>
            <a:ext cx="85536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582560" y="2620800"/>
            <a:ext cx="292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882800" y="2228760"/>
            <a:ext cx="85248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744640" y="2620800"/>
            <a:ext cx="290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044880" y="2228760"/>
            <a:ext cx="855720" cy="789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908520" y="2620800"/>
            <a:ext cx="41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434960" y="1550880"/>
            <a:ext cx="203832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-2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356000" y="1963800"/>
            <a:ext cx="4052880" cy="1822320"/>
          </a:xfrm>
          <a:prstGeom prst="rect">
            <a:avLst/>
          </a:prstGeom>
          <a:solidFill>
            <a:srgbClr val="fed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946760" y="2192400"/>
            <a:ext cx="7538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707080" y="2570040"/>
            <a:ext cx="25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972040" y="2192400"/>
            <a:ext cx="7574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737400" y="257004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343640" y="2192400"/>
            <a:ext cx="757440" cy="753840"/>
          </a:xfrm>
          <a:prstGeom prst="rect">
            <a:avLst/>
          </a:prstGeom>
          <a:solidFill>
            <a:srgbClr val="ff5b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259160" y="2502000"/>
            <a:ext cx="155520" cy="236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422600" y="2637000"/>
            <a:ext cx="51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4347720" y="1827360"/>
            <a:ext cx="1569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11880" y="18273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1689120"/>
            <a:ext cx="6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8520120" y="2131920"/>
            <a:ext cx="6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3065400" y="1968120"/>
            <a:ext cx="2730600" cy="1333440"/>
            <a:chOff x="3065400" y="1968120"/>
            <a:chExt cx="2730600" cy="1333440"/>
          </a:xfrm>
        </p:grpSpPr>
        <p:sp>
          <p:nvSpPr>
            <p:cNvPr id="1914" name=""/>
            <p:cNvSpPr/>
            <p:nvPr/>
          </p:nvSpPr>
          <p:spPr>
            <a:xfrm flipV="1">
              <a:off x="3065400" y="2018880"/>
              <a:ext cx="965160" cy="128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4830840" y="1968120"/>
              <a:ext cx="965160" cy="128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8142120" y="2521080"/>
            <a:ext cx="513000" cy="137880"/>
          </a:xfrm>
          <a:prstGeom prst="rightArrow">
            <a:avLst>
              <a:gd name="adj1" fmla="val 50000"/>
              <a:gd name="adj2" fmla="val 18604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1962000" y="3543480"/>
            <a:ext cx="4846680" cy="1658880"/>
            <a:chOff x="1962000" y="3543480"/>
            <a:chExt cx="4846680" cy="1658880"/>
          </a:xfrm>
        </p:grpSpPr>
        <p:sp>
          <p:nvSpPr>
            <p:cNvPr id="1918" name=""/>
            <p:cNvSpPr/>
            <p:nvPr/>
          </p:nvSpPr>
          <p:spPr>
            <a:xfrm>
              <a:off x="3682800" y="3543480"/>
              <a:ext cx="1282680" cy="698400"/>
            </a:xfrm>
            <a:prstGeom prst="downArrow">
              <a:avLst>
                <a:gd name="adj1" fmla="val 48019"/>
                <a:gd name="adj2" fmla="val 5409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479680" y="4403880"/>
              <a:ext cx="855720" cy="788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LC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522760" y="4427640"/>
              <a:ext cx="757440" cy="754200"/>
            </a:xfrm>
            <a:prstGeom prst="rect">
              <a:avLst/>
            </a:prstGeom>
            <a:solidFill>
              <a:srgbClr val="ff5b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922560" y="4413240"/>
              <a:ext cx="852480" cy="789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 rot="5400000">
              <a:off x="3969360" y="4388760"/>
              <a:ext cx="781200" cy="836640"/>
            </a:xfrm>
            <a:prstGeom prst="rtTriangle">
              <a:avLst/>
            </a:prstGeom>
            <a:solidFill>
              <a:srgbClr val="ff5b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022640" y="446256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962000" y="4775400"/>
              <a:ext cx="513000" cy="137880"/>
            </a:xfrm>
            <a:prstGeom prst="rightArrow">
              <a:avLst>
                <a:gd name="adj1" fmla="val 50000"/>
                <a:gd name="adj2" fmla="val 186048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96040" y="4775400"/>
              <a:ext cx="512640" cy="137880"/>
            </a:xfrm>
            <a:prstGeom prst="rightArrow">
              <a:avLst>
                <a:gd name="adj1" fmla="val 50000"/>
                <a:gd name="adj2" fmla="val 185918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327480" y="4862520"/>
              <a:ext cx="5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775040" y="48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8" name=""/>
          <p:cNvSpPr/>
          <p:nvPr/>
        </p:nvSpPr>
        <p:spPr>
          <a:xfrm>
            <a:off x="3767040" y="4129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al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4351320" y="2963880"/>
            <a:ext cx="3451320" cy="2897280"/>
            <a:chOff x="4351320" y="2963880"/>
            <a:chExt cx="3451320" cy="2897280"/>
          </a:xfrm>
        </p:grpSpPr>
        <p:grpSp>
          <p:nvGrpSpPr>
            <p:cNvPr id="1930" name=""/>
            <p:cNvGrpSpPr/>
            <p:nvPr/>
          </p:nvGrpSpPr>
          <p:grpSpPr>
            <a:xfrm>
              <a:off x="4351320" y="5160960"/>
              <a:ext cx="1616040" cy="700200"/>
              <a:chOff x="4351320" y="5160960"/>
              <a:chExt cx="1616040" cy="700200"/>
            </a:xfrm>
          </p:grpSpPr>
          <p:sp>
            <p:nvSpPr>
              <p:cNvPr id="1931" name=""/>
              <p:cNvSpPr/>
              <p:nvPr/>
            </p:nvSpPr>
            <p:spPr>
              <a:xfrm>
                <a:off x="4640040" y="5508720"/>
                <a:ext cx="719280" cy="352440"/>
              </a:xfrm>
              <a:prstGeom prst="rect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56080" y="5160960"/>
                <a:ext cx="611280" cy="5572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144" y="0"/>
                    </a:move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351320" y="5160960"/>
                <a:ext cx="274680" cy="5572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144" y="384"/>
                    </a:moveTo>
                    <a:lnTo>
                      <a:pt x="0" y="384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6186600" y="2963880"/>
              <a:ext cx="1616040" cy="700200"/>
              <a:chOff x="6186600" y="2963880"/>
              <a:chExt cx="1616040" cy="700200"/>
            </a:xfrm>
          </p:grpSpPr>
          <p:sp>
            <p:nvSpPr>
              <p:cNvPr id="1935" name=""/>
              <p:cNvSpPr/>
              <p:nvPr/>
            </p:nvSpPr>
            <p:spPr>
              <a:xfrm>
                <a:off x="6461280" y="3311640"/>
                <a:ext cx="718920" cy="352440"/>
              </a:xfrm>
              <a:prstGeom prst="rect">
                <a:avLst/>
              </a:prstGeom>
              <a:solidFill>
                <a:srgbClr val="ff505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191360" y="2963880"/>
                <a:ext cx="611280" cy="5572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144" y="0"/>
                    </a:moveTo>
                    <a:lnTo>
                      <a:pt x="144" y="384"/>
                    </a:lnTo>
                    <a:lnTo>
                      <a:pt x="0" y="3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186600" y="2963880"/>
                <a:ext cx="274680" cy="5572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144" y="384"/>
                    </a:moveTo>
                    <a:lnTo>
                      <a:pt x="0" y="384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8" name=""/>
          <p:cNvSpPr/>
          <p:nvPr/>
        </p:nvSpPr>
        <p:spPr>
          <a:xfrm>
            <a:off x="5479200" y="1522440"/>
            <a:ext cx="2039760" cy="366840"/>
          </a:xfrm>
          <a:prstGeom prst="rect">
            <a:avLst/>
          </a:prstGeom>
          <a:solidFill>
            <a:srgbClr val="ffdd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PEG-4 En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1339560" y="450720"/>
            <a:ext cx="472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terframe Trans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1367640" y="1828800"/>
            <a:ext cx="6926040" cy="1068840"/>
            <a:chOff x="1367640" y="1828800"/>
            <a:chExt cx="6926040" cy="1068840"/>
          </a:xfrm>
        </p:grpSpPr>
        <p:sp>
          <p:nvSpPr>
            <p:cNvPr id="1941" name=""/>
            <p:cNvSpPr/>
            <p:nvPr/>
          </p:nvSpPr>
          <p:spPr>
            <a:xfrm>
              <a:off x="1371600" y="18558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67640" y="1828800"/>
              <a:ext cx="6926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analyze pictures of a G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(GOP-Alignment, adaptive Quantis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3" name=""/>
          <p:cNvSpPr/>
          <p:nvPr/>
        </p:nvSpPr>
        <p:spPr>
          <a:xfrm>
            <a:off x="1423800" y="2932200"/>
            <a:ext cx="60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ultiple encoding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Optimization of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2436480" y="4114800"/>
            <a:ext cx="4199400" cy="1536840"/>
            <a:chOff x="2436480" y="4114800"/>
            <a:chExt cx="4199400" cy="1536840"/>
          </a:xfrm>
        </p:grpSpPr>
        <p:sp>
          <p:nvSpPr>
            <p:cNvPr id="1945" name=""/>
            <p:cNvSpPr/>
            <p:nvPr/>
          </p:nvSpPr>
          <p:spPr>
            <a:xfrm>
              <a:off x="4006800" y="4114800"/>
              <a:ext cx="1015920" cy="711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436480" y="5070240"/>
              <a:ext cx="419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etter picture 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196920" y="1197000"/>
            <a:ext cx="894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on-Realtime MPEG-2 Software Transco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>
            <a:off x="291960" y="1917720"/>
            <a:ext cx="1536840" cy="101592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:2:2 / I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828800" y="2247840"/>
            <a:ext cx="393840" cy="381240"/>
          </a:xfrm>
          <a:prstGeom prst="rightArrow">
            <a:avLst>
              <a:gd name="adj1" fmla="val 50000"/>
              <a:gd name="adj2" fmla="val 2582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6108840" y="2457360"/>
            <a:ext cx="1536480" cy="1467000"/>
            <a:chOff x="6108840" y="2457360"/>
            <a:chExt cx="1536480" cy="1467000"/>
          </a:xfrm>
        </p:grpSpPr>
        <p:grpSp>
          <p:nvGrpSpPr>
            <p:cNvPr id="1951" name=""/>
            <p:cNvGrpSpPr/>
            <p:nvPr/>
          </p:nvGrpSpPr>
          <p:grpSpPr>
            <a:xfrm>
              <a:off x="6108840" y="2819520"/>
              <a:ext cx="1536480" cy="1104840"/>
              <a:chOff x="6108840" y="2819520"/>
              <a:chExt cx="1536480" cy="1104840"/>
            </a:xfrm>
          </p:grpSpPr>
          <p:sp>
            <p:nvSpPr>
              <p:cNvPr id="1952" name=""/>
              <p:cNvSpPr/>
              <p:nvPr/>
            </p:nvSpPr>
            <p:spPr>
              <a:xfrm>
                <a:off x="6108840" y="2819520"/>
                <a:ext cx="1536480" cy="1104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empo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5  16 f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30  20 fp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654600" y="3505320"/>
                <a:ext cx="10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680160" y="378468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5" name=""/>
            <p:cNvSpPr/>
            <p:nvPr/>
          </p:nvSpPr>
          <p:spPr>
            <a:xfrm rot="5400000">
              <a:off x="6629400" y="2463840"/>
              <a:ext cx="393840" cy="380880"/>
            </a:xfrm>
            <a:prstGeom prst="rightArrow">
              <a:avLst>
                <a:gd name="adj1" fmla="val 50000"/>
                <a:gd name="adj2" fmla="val 25851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0" y="146052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081160" y="1279440"/>
            <a:ext cx="2279520" cy="1684440"/>
            <a:chOff x="2081160" y="1279440"/>
            <a:chExt cx="2279520" cy="1684440"/>
          </a:xfrm>
        </p:grpSpPr>
        <p:sp>
          <p:nvSpPr>
            <p:cNvPr id="1958" name=""/>
            <p:cNvSpPr/>
            <p:nvPr/>
          </p:nvSpPr>
          <p:spPr>
            <a:xfrm>
              <a:off x="3770280" y="2252880"/>
              <a:ext cx="393480" cy="380880"/>
            </a:xfrm>
            <a:prstGeom prst="rightArrow">
              <a:avLst>
                <a:gd name="adj1" fmla="val 50000"/>
                <a:gd name="adj2" fmla="val 25827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9" name=""/>
            <p:cNvGrpSpPr/>
            <p:nvPr/>
          </p:nvGrpSpPr>
          <p:grpSpPr>
            <a:xfrm>
              <a:off x="2081160" y="1279440"/>
              <a:ext cx="2279520" cy="1684440"/>
              <a:chOff x="2081160" y="1279440"/>
              <a:chExt cx="2279520" cy="1684440"/>
            </a:xfrm>
          </p:grpSpPr>
          <p:sp>
            <p:nvSpPr>
              <p:cNvPr id="1960" name=""/>
              <p:cNvSpPr/>
              <p:nvPr/>
            </p:nvSpPr>
            <p:spPr>
              <a:xfrm>
                <a:off x="2208240" y="1947960"/>
                <a:ext cx="1536480" cy="1015920"/>
              </a:xfrm>
              <a:prstGeom prst="rect">
                <a:avLst/>
              </a:prstGeom>
              <a:solidFill>
                <a:srgbClr val="ffdd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:2:2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:2: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081160" y="1279440"/>
                <a:ext cx="227952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lor Resolu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2" name=""/>
          <p:cNvGrpSpPr/>
          <p:nvPr/>
        </p:nvGrpSpPr>
        <p:grpSpPr>
          <a:xfrm>
            <a:off x="4025880" y="1422360"/>
            <a:ext cx="4940640" cy="2090880"/>
            <a:chOff x="4025880" y="1422360"/>
            <a:chExt cx="4940640" cy="2090880"/>
          </a:xfrm>
        </p:grpSpPr>
        <p:sp>
          <p:nvSpPr>
            <p:cNvPr id="1963" name=""/>
            <p:cNvSpPr/>
            <p:nvPr/>
          </p:nvSpPr>
          <p:spPr>
            <a:xfrm>
              <a:off x="4165560" y="1917720"/>
              <a:ext cx="1536840" cy="1015920"/>
            </a:xfrm>
            <a:prstGeom prst="rect">
              <a:avLst/>
            </a:prstGeom>
            <a:solidFill>
              <a:srgbClr val="ffd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P@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~3...9 Mbit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4" name=""/>
            <p:cNvGrpSpPr/>
            <p:nvPr/>
          </p:nvGrpSpPr>
          <p:grpSpPr>
            <a:xfrm>
              <a:off x="7839000" y="1816200"/>
              <a:ext cx="609480" cy="920160"/>
              <a:chOff x="7839000" y="1816200"/>
              <a:chExt cx="609480" cy="920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8057880" y="2373120"/>
                <a:ext cx="25560" cy="105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057880" y="2373120"/>
                <a:ext cx="504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61040" y="2287440"/>
                <a:ext cx="73080" cy="1915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8204040" y="2330280"/>
                <a:ext cx="49320" cy="4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8130960" y="22651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057880" y="2501640"/>
                <a:ext cx="146160" cy="2880"/>
              </a:xfrm>
              <a:custGeom>
                <a:avLst/>
                <a:gdLst/>
                <a:ahLst/>
                <a:rect l="l" t="t" r="r" b="b"/>
                <a:pathLst>
                  <a:path w="36" h="0">
                    <a:moveTo>
                      <a:pt x="0" y="0"/>
                    </a:moveTo>
                    <a:lnTo>
                      <a:pt x="36" y="0"/>
                    </a:lnTo>
                    <a:lnTo>
                      <a:pt x="3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61040" y="203004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0" y="18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35840" y="1836360"/>
                <a:ext cx="98280" cy="642600"/>
              </a:xfrm>
              <a:custGeom>
                <a:avLst/>
                <a:gdLst/>
                <a:ahLst/>
                <a:rect l="l" t="t" r="r" b="b"/>
                <a:pathLst>
                  <a:path w="24" h="180">
                    <a:moveTo>
                      <a:pt x="24" y="0"/>
                    </a:moveTo>
                    <a:lnTo>
                      <a:pt x="0" y="12"/>
                    </a:lnTo>
                    <a:lnTo>
                      <a:pt x="0" y="180"/>
                    </a:lnTo>
                    <a:lnTo>
                      <a:pt x="6" y="180"/>
                    </a:lnTo>
                    <a:lnTo>
                      <a:pt x="6" y="30"/>
                    </a:lnTo>
                    <a:lnTo>
                      <a:pt x="24" y="1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35840" y="2479320"/>
                <a:ext cx="512640" cy="12852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0" y="3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114" y="12"/>
                    </a:lnTo>
                    <a:lnTo>
                      <a:pt x="114" y="24"/>
                    </a:lnTo>
                    <a:lnTo>
                      <a:pt x="126" y="24"/>
                    </a:lnTo>
                    <a:lnTo>
                      <a:pt x="12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35840" y="2565000"/>
                <a:ext cx="390600" cy="42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35840" y="2287440"/>
                <a:ext cx="468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12080" y="2373120"/>
                <a:ext cx="23760" cy="20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107200" y="2330280"/>
                <a:ext cx="96840" cy="17100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8"/>
                    </a:lnTo>
                    <a:lnTo>
                      <a:pt x="24" y="4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862760" y="2436480"/>
                <a:ext cx="73080" cy="17136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2" y="0"/>
                    </a:moveTo>
                    <a:lnTo>
                      <a:pt x="0" y="18"/>
                    </a:lnTo>
                    <a:lnTo>
                      <a:pt x="0" y="48"/>
                    </a:lnTo>
                    <a:lnTo>
                      <a:pt x="18" y="48"/>
                    </a:lnTo>
                    <a:lnTo>
                      <a:pt x="18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839000" y="2693880"/>
                <a:ext cx="609480" cy="42480"/>
              </a:xfrm>
              <a:prstGeom prst="rect">
                <a:avLst/>
              </a:prstGeom>
              <a:solidFill>
                <a:srgbClr val="9f9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839000" y="2651040"/>
                <a:ext cx="609480" cy="42480"/>
              </a:xfrm>
              <a:prstGeom prst="rect">
                <a:avLst/>
              </a:prstGeom>
              <a:solidFill>
                <a:srgbClr val="9f9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839000" y="2608200"/>
                <a:ext cx="609480" cy="42480"/>
              </a:xfrm>
              <a:prstGeom prst="rect">
                <a:avLst/>
              </a:prstGeom>
              <a:solidFill>
                <a:srgbClr val="9f9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375400" y="2587320"/>
                <a:ext cx="73080" cy="20520"/>
              </a:xfrm>
              <a:prstGeom prst="rect">
                <a:avLst/>
              </a:prstGeom>
              <a:solidFill>
                <a:srgbClr val="9f9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12080" y="2393640"/>
                <a:ext cx="4680" cy="42480"/>
              </a:xfrm>
              <a:prstGeom prst="ellipse">
                <a:avLst/>
              </a:prstGeom>
              <a:solidFill>
                <a:srgbClr val="9f9f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057880" y="2307960"/>
                <a:ext cx="49320" cy="42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034120" y="2287440"/>
                <a:ext cx="169920" cy="1915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6" y="54"/>
                    </a:moveTo>
                    <a:lnTo>
                      <a:pt x="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12080" y="2093760"/>
                <a:ext cx="145800" cy="193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887960" y="2093760"/>
                <a:ext cx="169920" cy="1933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61040" y="2479320"/>
                <a:ext cx="73080" cy="171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61040" y="2522160"/>
                <a:ext cx="730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61040" y="2587320"/>
                <a:ext cx="730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61040" y="2565000"/>
                <a:ext cx="730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61040" y="2544480"/>
                <a:ext cx="730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61040" y="2501640"/>
                <a:ext cx="730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61040" y="2608200"/>
                <a:ext cx="730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61040" y="2630160"/>
                <a:ext cx="7308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8399160" y="2522160"/>
                <a:ext cx="25560" cy="42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8277120" y="205092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0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bf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204040" y="2008080"/>
                <a:ext cx="98280" cy="2160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4" y="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fbf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84800" y="1816200"/>
                <a:ext cx="366840" cy="577440"/>
              </a:xfrm>
              <a:custGeom>
                <a:avLst/>
                <a:gdLst/>
                <a:ahLst/>
                <a:rect l="l" t="t" r="r" b="b"/>
                <a:pathLst>
                  <a:path w="90" h="162">
                    <a:moveTo>
                      <a:pt x="0" y="6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6" y="72"/>
                    </a:lnTo>
                    <a:lnTo>
                      <a:pt x="12" y="84"/>
                    </a:lnTo>
                    <a:lnTo>
                      <a:pt x="18" y="102"/>
                    </a:lnTo>
                    <a:lnTo>
                      <a:pt x="30" y="114"/>
                    </a:lnTo>
                    <a:lnTo>
                      <a:pt x="36" y="126"/>
                    </a:lnTo>
                    <a:lnTo>
                      <a:pt x="48" y="132"/>
                    </a:lnTo>
                    <a:lnTo>
                      <a:pt x="54" y="144"/>
                    </a:lnTo>
                    <a:lnTo>
                      <a:pt x="66" y="150"/>
                    </a:lnTo>
                    <a:lnTo>
                      <a:pt x="72" y="156"/>
                    </a:lnTo>
                    <a:lnTo>
                      <a:pt x="78" y="162"/>
                    </a:lnTo>
                    <a:lnTo>
                      <a:pt x="84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010360" y="1816200"/>
                <a:ext cx="341280" cy="57744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6" y="66"/>
                    </a:lnTo>
                    <a:lnTo>
                      <a:pt x="12" y="84"/>
                    </a:lnTo>
                    <a:lnTo>
                      <a:pt x="24" y="96"/>
                    </a:lnTo>
                    <a:lnTo>
                      <a:pt x="30" y="108"/>
                    </a:lnTo>
                    <a:lnTo>
                      <a:pt x="36" y="120"/>
                    </a:lnTo>
                    <a:lnTo>
                      <a:pt x="42" y="126"/>
                    </a:lnTo>
                    <a:lnTo>
                      <a:pt x="48" y="132"/>
                    </a:lnTo>
                    <a:lnTo>
                      <a:pt x="54" y="138"/>
                    </a:lnTo>
                    <a:lnTo>
                      <a:pt x="60" y="144"/>
                    </a:lnTo>
                    <a:lnTo>
                      <a:pt x="66" y="150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56"/>
                    </a:lnTo>
                    <a:lnTo>
                      <a:pt x="84" y="150"/>
                    </a:lnTo>
                    <a:lnTo>
                      <a:pt x="84" y="144"/>
                    </a:lnTo>
                    <a:lnTo>
                      <a:pt x="84" y="138"/>
                    </a:lnTo>
                    <a:lnTo>
                      <a:pt x="78" y="126"/>
                    </a:lnTo>
                    <a:lnTo>
                      <a:pt x="78" y="120"/>
                    </a:lnTo>
                    <a:lnTo>
                      <a:pt x="72" y="108"/>
                    </a:lnTo>
                    <a:lnTo>
                      <a:pt x="72" y="102"/>
                    </a:lnTo>
                    <a:lnTo>
                      <a:pt x="66" y="90"/>
                    </a:lnTo>
                    <a:lnTo>
                      <a:pt x="66" y="84"/>
                    </a:lnTo>
                    <a:lnTo>
                      <a:pt x="60" y="78"/>
                    </a:lnTo>
                    <a:lnTo>
                      <a:pt x="54" y="66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8010360" y="1965240"/>
                <a:ext cx="341280" cy="21600"/>
              </a:xfrm>
              <a:custGeom>
                <a:avLst/>
                <a:gdLst/>
                <a:ahLst/>
                <a:rect l="l" t="t" r="r" b="b"/>
                <a:pathLst>
                  <a:path w="84" h="6">
                    <a:moveTo>
                      <a:pt x="0" y="0"/>
                    </a:moveTo>
                    <a:lnTo>
                      <a:pt x="84" y="0"/>
                    </a:lnTo>
                    <a:lnTo>
                      <a:pt x="8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253360" y="2030040"/>
                <a:ext cx="122040" cy="299880"/>
              </a:xfrm>
              <a:custGeom>
                <a:avLst/>
                <a:gdLst/>
                <a:ahLst/>
                <a:rect l="l" t="t" r="r" b="b"/>
                <a:pathLst>
                  <a:path w="30" h="84">
                    <a:moveTo>
                      <a:pt x="24" y="6"/>
                    </a:moveTo>
                    <a:lnTo>
                      <a:pt x="0" y="84"/>
                    </a:lnTo>
                    <a:lnTo>
                      <a:pt x="0" y="84"/>
                    </a:lnTo>
                    <a:lnTo>
                      <a:pt x="30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302320" y="1965240"/>
                <a:ext cx="96840" cy="85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0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fbf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8351640" y="1965240"/>
                <a:ext cx="47520" cy="853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6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8375400" y="1965240"/>
                <a:ext cx="49320" cy="64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6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f9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326440" y="1987200"/>
                <a:ext cx="25200" cy="633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326440" y="1987200"/>
                <a:ext cx="25200" cy="6336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"/>
            <p:cNvSpPr/>
            <p:nvPr/>
          </p:nvSpPr>
          <p:spPr>
            <a:xfrm>
              <a:off x="7759080" y="2781360"/>
              <a:ext cx="66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803720" y="3019320"/>
              <a:ext cx="57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670520" y="3238560"/>
              <a:ext cx="129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adca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715000" y="2158920"/>
              <a:ext cx="2120760" cy="381240"/>
            </a:xfrm>
            <a:prstGeom prst="rightArrow">
              <a:avLst>
                <a:gd name="adj1" fmla="val 50000"/>
                <a:gd name="adj2" fmla="val 13907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025880" y="1422360"/>
              <a:ext cx="25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OP Trans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3" name=""/>
          <p:cNvSpPr/>
          <p:nvPr/>
        </p:nvSpPr>
        <p:spPr>
          <a:xfrm>
            <a:off x="1327680" y="584280"/>
            <a:ext cx="628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ranscoding to Internet Video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"/>
          <p:cNvSpPr/>
          <p:nvPr/>
        </p:nvSpPr>
        <p:spPr>
          <a:xfrm>
            <a:off x="64152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4152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07964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593720" y="2019240"/>
            <a:ext cx="74484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16540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67984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00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193920" y="2019240"/>
            <a:ext cx="74484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70836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28004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00ff66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794120" y="2019240"/>
            <a:ext cx="74484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32764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4208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00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41340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92784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33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132200" y="3211560"/>
            <a:ext cx="616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      B     B     P    B     B     P      B     B    P     B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423200" y="2019240"/>
            <a:ext cx="744480" cy="2173320"/>
          </a:xfrm>
          <a:custGeom>
            <a:avLst/>
            <a:gdLst/>
            <a:ahLst/>
            <a:rect l="l" t="t" r="r" b="b"/>
            <a:pathLst>
              <a:path w="469" h="1369">
                <a:moveTo>
                  <a:pt x="0" y="396"/>
                </a:moveTo>
                <a:lnTo>
                  <a:pt x="0" y="1368"/>
                </a:lnTo>
                <a:lnTo>
                  <a:pt x="72" y="1296"/>
                </a:lnTo>
                <a:lnTo>
                  <a:pt x="468" y="900"/>
                </a:lnTo>
                <a:lnTo>
                  <a:pt x="468" y="0"/>
                </a:lnTo>
                <a:lnTo>
                  <a:pt x="0" y="396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841400" y="1809720"/>
            <a:ext cx="116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371400" y="1655640"/>
            <a:ext cx="202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P12 (N=12, M=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784840" y="180972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348560" y="609480"/>
            <a:ext cx="306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icture Dr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H="1" rot="16200000">
            <a:off x="367200" y="3949920"/>
            <a:ext cx="863640" cy="5713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 rot="16200000">
            <a:off x="1955880" y="3995640"/>
            <a:ext cx="863280" cy="571680"/>
          </a:xfrm>
          <a:custGeom>
            <a:avLst/>
            <a:gdLst>
              <a:gd name="textAreaLeft" fmla="*/ 135000 w 863280"/>
              <a:gd name="textAreaRight" fmla="*/ 756000 w 8632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rot="16200000">
            <a:off x="3516840" y="3995640"/>
            <a:ext cx="863280" cy="571320"/>
          </a:xfrm>
          <a:custGeom>
            <a:avLst/>
            <a:gdLst>
              <a:gd name="textAreaLeft" fmla="*/ 135000 w 863280"/>
              <a:gd name="textAreaRight" fmla="*/ 756000 w 863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 rot="16200000">
            <a:off x="5105520" y="3995640"/>
            <a:ext cx="863280" cy="571680"/>
          </a:xfrm>
          <a:custGeom>
            <a:avLst/>
            <a:gdLst>
              <a:gd name="textAreaLeft" fmla="*/ 135000 w 863280"/>
              <a:gd name="textAreaRight" fmla="*/ 756000 w 8632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rot="16200000">
            <a:off x="6729840" y="3995640"/>
            <a:ext cx="863280" cy="571320"/>
          </a:xfrm>
          <a:custGeom>
            <a:avLst/>
            <a:gdLst>
              <a:gd name="textAreaLeft" fmla="*/ 135000 w 863280"/>
              <a:gd name="textAreaRight" fmla="*/ 756000 w 863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62240" y="127008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5 (30)  Frame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743200" y="5092560"/>
            <a:ext cx="279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6 (20)  Frames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184480" y="26668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720960" y="265428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2440" y="26668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334120" y="2654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946920" y="264168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/>
          <p:nvPr/>
        </p:nvSpPr>
        <p:spPr>
          <a:xfrm>
            <a:off x="291960" y="1917720"/>
            <a:ext cx="1536840" cy="101592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:2:2 / I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222640" y="1917720"/>
            <a:ext cx="1536480" cy="101592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:2: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:2: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165560" y="1917720"/>
            <a:ext cx="1536840" cy="101592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@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3...9 M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2971800" y="2413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108840" y="2819520"/>
            <a:ext cx="1536480" cy="1104840"/>
            <a:chOff x="6108840" y="2819520"/>
            <a:chExt cx="1536480" cy="1104840"/>
          </a:xfrm>
        </p:grpSpPr>
        <p:sp>
          <p:nvSpPr>
            <p:cNvPr id="2051" name=""/>
            <p:cNvSpPr/>
            <p:nvPr/>
          </p:nvSpPr>
          <p:spPr>
            <a:xfrm>
              <a:off x="6108840" y="2819520"/>
              <a:ext cx="1536480" cy="1104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emp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5  16 f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30  20 f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654600" y="35053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680160" y="378468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839000" y="1816200"/>
            <a:ext cx="609480" cy="920160"/>
            <a:chOff x="7839000" y="1816200"/>
            <a:chExt cx="609480" cy="920160"/>
          </a:xfrm>
        </p:grpSpPr>
        <p:sp>
          <p:nvSpPr>
            <p:cNvPr id="2055" name=""/>
            <p:cNvSpPr/>
            <p:nvPr/>
          </p:nvSpPr>
          <p:spPr>
            <a:xfrm>
              <a:off x="8057880" y="2373120"/>
              <a:ext cx="25560" cy="105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057880" y="2373120"/>
              <a:ext cx="504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961040" y="2287440"/>
              <a:ext cx="73080" cy="191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204040" y="2330280"/>
              <a:ext cx="49320" cy="4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130960" y="2265120"/>
              <a:ext cx="255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057880" y="2501640"/>
              <a:ext cx="146160" cy="288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961040" y="2030040"/>
              <a:ext cx="49320" cy="853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18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935840" y="1836360"/>
              <a:ext cx="98280" cy="642600"/>
            </a:xfrm>
            <a:custGeom>
              <a:avLst/>
              <a:gdLst/>
              <a:ahLst/>
              <a:rect l="l" t="t" r="r" b="b"/>
              <a:pathLst>
                <a:path w="24" h="180">
                  <a:moveTo>
                    <a:pt x="24" y="0"/>
                  </a:moveTo>
                  <a:lnTo>
                    <a:pt x="0" y="12"/>
                  </a:lnTo>
                  <a:lnTo>
                    <a:pt x="0" y="180"/>
                  </a:lnTo>
                  <a:lnTo>
                    <a:pt x="6" y="180"/>
                  </a:lnTo>
                  <a:lnTo>
                    <a:pt x="6" y="30"/>
                  </a:lnTo>
                  <a:lnTo>
                    <a:pt x="24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f9f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35840" y="2479320"/>
              <a:ext cx="512640" cy="12852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0" y="3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114" y="12"/>
                  </a:lnTo>
                  <a:lnTo>
                    <a:pt x="114" y="24"/>
                  </a:lnTo>
                  <a:lnTo>
                    <a:pt x="126" y="24"/>
                  </a:lnTo>
                  <a:lnTo>
                    <a:pt x="126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935840" y="2565000"/>
              <a:ext cx="390600" cy="42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935840" y="2287440"/>
              <a:ext cx="468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912080" y="2373120"/>
              <a:ext cx="23760" cy="20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107200" y="2330280"/>
              <a:ext cx="96840" cy="17100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0" y="0"/>
                  </a:moveTo>
                  <a:lnTo>
                    <a:pt x="24" y="48"/>
                  </a:lnTo>
                  <a:lnTo>
                    <a:pt x="24" y="4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862760" y="2436480"/>
              <a:ext cx="73080" cy="1713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2" y="0"/>
                  </a:moveTo>
                  <a:lnTo>
                    <a:pt x="0" y="18"/>
                  </a:lnTo>
                  <a:lnTo>
                    <a:pt x="0" y="48"/>
                  </a:lnTo>
                  <a:lnTo>
                    <a:pt x="18" y="4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839000" y="2693880"/>
              <a:ext cx="609480" cy="4248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839000" y="2651040"/>
              <a:ext cx="609480" cy="4248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839000" y="2608200"/>
              <a:ext cx="609480" cy="4248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375400" y="2587320"/>
              <a:ext cx="73080" cy="2052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912080" y="2393640"/>
              <a:ext cx="4680" cy="42480"/>
            </a:xfrm>
            <a:prstGeom prst="ellipse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057880" y="2307960"/>
              <a:ext cx="49320" cy="4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034120" y="2287440"/>
              <a:ext cx="169920" cy="19152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6" y="54"/>
                  </a:moveTo>
                  <a:lnTo>
                    <a:pt x="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912080" y="2093760"/>
              <a:ext cx="145800" cy="193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87960" y="2093760"/>
              <a:ext cx="169920" cy="193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961040" y="2479320"/>
              <a:ext cx="73080" cy="171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961040" y="2522160"/>
              <a:ext cx="73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961040" y="2587320"/>
              <a:ext cx="73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961040" y="2565000"/>
              <a:ext cx="73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961040" y="2544480"/>
              <a:ext cx="73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961040" y="2501640"/>
              <a:ext cx="73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961040" y="2608200"/>
              <a:ext cx="730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961040" y="2630160"/>
              <a:ext cx="7308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399160" y="2522160"/>
              <a:ext cx="25560" cy="42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77120" y="2050920"/>
              <a:ext cx="49320" cy="853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04040" y="2008080"/>
              <a:ext cx="98280" cy="216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24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984800" y="1816200"/>
              <a:ext cx="366840" cy="577440"/>
            </a:xfrm>
            <a:custGeom>
              <a:avLst/>
              <a:gdLst/>
              <a:ahLst/>
              <a:rect l="l" t="t" r="r" b="b"/>
              <a:pathLst>
                <a:path w="90" h="162">
                  <a:moveTo>
                    <a:pt x="0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18" y="102"/>
                  </a:lnTo>
                  <a:lnTo>
                    <a:pt x="30" y="114"/>
                  </a:lnTo>
                  <a:lnTo>
                    <a:pt x="36" y="126"/>
                  </a:lnTo>
                  <a:lnTo>
                    <a:pt x="48" y="132"/>
                  </a:lnTo>
                  <a:lnTo>
                    <a:pt x="54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90" y="162"/>
                  </a:lnTo>
                  <a:lnTo>
                    <a:pt x="90" y="1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010360" y="1816200"/>
              <a:ext cx="341280" cy="57744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12" y="84"/>
                  </a:lnTo>
                  <a:lnTo>
                    <a:pt x="24" y="96"/>
                  </a:lnTo>
                  <a:lnTo>
                    <a:pt x="30" y="108"/>
                  </a:lnTo>
                  <a:lnTo>
                    <a:pt x="36" y="120"/>
                  </a:lnTo>
                  <a:lnTo>
                    <a:pt x="42" y="126"/>
                  </a:lnTo>
                  <a:lnTo>
                    <a:pt x="48" y="132"/>
                  </a:lnTo>
                  <a:lnTo>
                    <a:pt x="54" y="138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4" y="156"/>
                  </a:lnTo>
                  <a:lnTo>
                    <a:pt x="84" y="150"/>
                  </a:lnTo>
                  <a:lnTo>
                    <a:pt x="84" y="144"/>
                  </a:lnTo>
                  <a:lnTo>
                    <a:pt x="84" y="138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54" y="66"/>
                  </a:lnTo>
                  <a:lnTo>
                    <a:pt x="48" y="54"/>
                  </a:lnTo>
                  <a:lnTo>
                    <a:pt x="42" y="48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010360" y="1965240"/>
              <a:ext cx="341280" cy="21600"/>
            </a:xfrm>
            <a:custGeom>
              <a:avLst/>
              <a:gdLst/>
              <a:ahLst/>
              <a:rect l="l" t="t" r="r" b="b"/>
              <a:pathLst>
                <a:path w="84" h="6">
                  <a:moveTo>
                    <a:pt x="0" y="0"/>
                  </a:moveTo>
                  <a:lnTo>
                    <a:pt x="84" y="0"/>
                  </a:lnTo>
                  <a:lnTo>
                    <a:pt x="8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d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253360" y="2030040"/>
              <a:ext cx="122040" cy="299880"/>
            </a:xfrm>
            <a:custGeom>
              <a:avLst/>
              <a:gdLst/>
              <a:ahLst/>
              <a:rect l="l" t="t" r="r" b="b"/>
              <a:pathLst>
                <a:path w="30" h="84">
                  <a:moveTo>
                    <a:pt x="24" y="6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3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dfd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302320" y="1965240"/>
              <a:ext cx="96840" cy="853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8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51640" y="1965240"/>
              <a:ext cx="47520" cy="8532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75400" y="1965240"/>
              <a:ext cx="49320" cy="64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9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326440" y="1987200"/>
              <a:ext cx="25200" cy="633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326440" y="1987200"/>
              <a:ext cx="25200" cy="633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7759080" y="278136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803720" y="301932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7670520" y="3238560"/>
            <a:ext cx="12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ad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828800" y="2247840"/>
            <a:ext cx="393840" cy="381240"/>
          </a:xfrm>
          <a:prstGeom prst="rightArrow">
            <a:avLst>
              <a:gd name="adj1" fmla="val 50000"/>
              <a:gd name="adj2" fmla="val 2582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784680" y="2222640"/>
            <a:ext cx="393480" cy="380880"/>
          </a:xfrm>
          <a:prstGeom prst="rightArrow">
            <a:avLst>
              <a:gd name="adj1" fmla="val 50000"/>
              <a:gd name="adj2" fmla="val 2582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715000" y="2158920"/>
            <a:ext cx="2120760" cy="381240"/>
          </a:xfrm>
          <a:prstGeom prst="rightArrow">
            <a:avLst>
              <a:gd name="adj1" fmla="val 50000"/>
              <a:gd name="adj2" fmla="val 13907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rot="5400000">
            <a:off x="6629400" y="2463840"/>
            <a:ext cx="393840" cy="380880"/>
          </a:xfrm>
          <a:prstGeom prst="rightArrow">
            <a:avLst>
              <a:gd name="adj1" fmla="val 50000"/>
              <a:gd name="adj2" fmla="val 2585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6134040" y="3930480"/>
            <a:ext cx="1536840" cy="1390680"/>
            <a:chOff x="6134040" y="3930480"/>
            <a:chExt cx="1536840" cy="1390680"/>
          </a:xfrm>
        </p:grpSpPr>
        <p:sp>
          <p:nvSpPr>
            <p:cNvPr id="2106" name=""/>
            <p:cNvSpPr/>
            <p:nvPr/>
          </p:nvSpPr>
          <p:spPr>
            <a:xfrm>
              <a:off x="6134040" y="4305240"/>
              <a:ext cx="1536840" cy="101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pa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6629400" y="3936960"/>
              <a:ext cx="393840" cy="380880"/>
            </a:xfrm>
            <a:prstGeom prst="rightArrow">
              <a:avLst>
                <a:gd name="adj1" fmla="val 50000"/>
                <a:gd name="adj2" fmla="val 25851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674280" y="4267440"/>
            <a:ext cx="5434560" cy="1388160"/>
            <a:chOff x="674280" y="4267440"/>
            <a:chExt cx="5434560" cy="1388160"/>
          </a:xfrm>
        </p:grpSpPr>
        <p:sp>
          <p:nvSpPr>
            <p:cNvPr id="2109" name=""/>
            <p:cNvSpPr/>
            <p:nvPr/>
          </p:nvSpPr>
          <p:spPr>
            <a:xfrm>
              <a:off x="3619440" y="4305240"/>
              <a:ext cx="1778040" cy="101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PEG2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ans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mquant scal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2746440" y="4559400"/>
              <a:ext cx="479520" cy="745200"/>
              <a:chOff x="2746440" y="4559400"/>
              <a:chExt cx="479520" cy="745200"/>
            </a:xfrm>
          </p:grpSpPr>
          <p:grpSp>
            <p:nvGrpSpPr>
              <p:cNvPr id="2111" name=""/>
              <p:cNvGrpSpPr/>
              <p:nvPr/>
            </p:nvGrpSpPr>
            <p:grpSpPr>
              <a:xfrm>
                <a:off x="2746440" y="4559400"/>
                <a:ext cx="479520" cy="745200"/>
                <a:chOff x="2746440" y="4559400"/>
                <a:chExt cx="479520" cy="74520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2748600" y="4646880"/>
                  <a:ext cx="438840" cy="653040"/>
                </a:xfrm>
                <a:custGeom>
                  <a:avLst/>
                  <a:gdLst/>
                  <a:ahLst/>
                  <a:rect l="l" t="t" r="r" b="b"/>
                  <a:pathLst>
                    <a:path w="179" h="403">
                      <a:moveTo>
                        <a:pt x="178" y="0"/>
                      </a:moveTo>
                      <a:lnTo>
                        <a:pt x="0" y="0"/>
                      </a:lnTo>
                      <a:lnTo>
                        <a:pt x="0" y="402"/>
                      </a:lnTo>
                      <a:lnTo>
                        <a:pt x="178" y="402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184560" y="4559400"/>
                  <a:ext cx="41400" cy="745200"/>
                </a:xfrm>
                <a:custGeom>
                  <a:avLst/>
                  <a:gdLst/>
                  <a:ahLst/>
                  <a:rect l="l" t="t" r="r" b="b"/>
                  <a:pathLst>
                    <a:path w="17" h="460">
                      <a:moveTo>
                        <a:pt x="16" y="26"/>
                      </a:moveTo>
                      <a:lnTo>
                        <a:pt x="15" y="396"/>
                      </a:lnTo>
                      <a:lnTo>
                        <a:pt x="0" y="459"/>
                      </a:lnTo>
                      <a:lnTo>
                        <a:pt x="0" y="117"/>
                      </a:lnTo>
                      <a:lnTo>
                        <a:pt x="0" y="81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6" y="26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748600" y="5244840"/>
                  <a:ext cx="43380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746440" y="4737600"/>
                  <a:ext cx="43308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981160" y="468864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30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6" y="3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748600" y="4564080"/>
                  <a:ext cx="475560" cy="83880"/>
                </a:xfrm>
                <a:custGeom>
                  <a:avLst/>
                  <a:gdLst/>
                  <a:ahLst/>
                  <a:rect l="l" t="t" r="r" b="b"/>
                  <a:pathLst>
                    <a:path w="194" h="52">
                      <a:moveTo>
                        <a:pt x="0" y="51"/>
                      </a:moveTo>
                      <a:lnTo>
                        <a:pt x="29" y="0"/>
                      </a:lnTo>
                      <a:lnTo>
                        <a:pt x="193" y="0"/>
                      </a:lnTo>
                      <a:lnTo>
                        <a:pt x="177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2758320" y="4653000"/>
                  <a:ext cx="416160" cy="47880"/>
                  <a:chOff x="2758320" y="4653000"/>
                  <a:chExt cx="416160" cy="47880"/>
                </a:xfrm>
              </p:grpSpPr>
              <p:sp>
                <p:nvSpPr>
                  <p:cNvPr id="2119" name=""/>
                  <p:cNvSpPr/>
                  <p:nvPr/>
                </p:nvSpPr>
                <p:spPr>
                  <a:xfrm>
                    <a:off x="2758320" y="4653000"/>
                    <a:ext cx="416160" cy="37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0" name=""/>
                  <p:cNvGrpSpPr/>
                  <p:nvPr/>
                </p:nvGrpSpPr>
                <p:grpSpPr>
                  <a:xfrm>
                    <a:off x="2765520" y="4653000"/>
                    <a:ext cx="400680" cy="47880"/>
                    <a:chOff x="2765520" y="4653000"/>
                    <a:chExt cx="400680" cy="47880"/>
                  </a:xfrm>
                </p:grpSpPr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2765520" y="4653000"/>
                      <a:ext cx="400680" cy="3492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2775240" y="4660920"/>
                      <a:ext cx="19080" cy="1296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2775240" y="4687920"/>
                      <a:ext cx="19080" cy="12960"/>
                    </a:xfrm>
                    <a:prstGeom prst="rect">
                      <a:avLst/>
                    </a:pr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24" name=""/>
                <p:cNvSpPr/>
                <p:nvPr/>
              </p:nvSpPr>
              <p:spPr>
                <a:xfrm>
                  <a:off x="2748600" y="5204520"/>
                  <a:ext cx="43380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5" name=""/>
              <p:cNvGrpSpPr/>
              <p:nvPr/>
            </p:nvGrpSpPr>
            <p:grpSpPr>
              <a:xfrm>
                <a:off x="2787480" y="4811040"/>
                <a:ext cx="320760" cy="364320"/>
                <a:chOff x="2787480" y="4811040"/>
                <a:chExt cx="320760" cy="36432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2831400" y="5077080"/>
                  <a:ext cx="276840" cy="67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961360" y="511272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811600" y="5069160"/>
                  <a:ext cx="9540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2882520" y="51220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 flipV="1">
                  <a:off x="2794320" y="5072400"/>
                  <a:ext cx="9540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>
                  <a:off x="2882520" y="51127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2882880" y="511236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V="1">
                  <a:off x="2900160" y="511236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flipV="1">
                  <a:off x="2872440" y="5115960"/>
                  <a:ext cx="1692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V="1">
                  <a:off x="2872800" y="511236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 flipV="1">
                  <a:off x="2796480" y="5075280"/>
                  <a:ext cx="83160" cy="4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2794320" y="50691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796840" y="5070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799360" y="5069160"/>
                  <a:ext cx="100440" cy="4464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882880" y="511272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796840" y="507384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882880" y="51127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flipV="1">
                  <a:off x="2796480" y="5072400"/>
                  <a:ext cx="9324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31400" y="5034960"/>
                  <a:ext cx="276840" cy="709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961360" y="507060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11600" y="502704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>
                  <a:off x="2882520" y="50803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flipV="1">
                  <a:off x="2794320" y="502812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>
                  <a:off x="2882520" y="50691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V="1">
                  <a:off x="2882880" y="506880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V="1">
                  <a:off x="2900160" y="506880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flipV="1">
                  <a:off x="2872440" y="5074920"/>
                  <a:ext cx="1692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V="1">
                  <a:off x="2872800" y="506880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flipV="1">
                  <a:off x="2796480" y="503460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>
                  <a:off x="2794320" y="5027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796840" y="5028480"/>
                  <a:ext cx="0" cy="1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799360" y="5027040"/>
                  <a:ext cx="100440" cy="4320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2882880" y="5069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796840" y="503028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2882880" y="50691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flipV="1">
                  <a:off x="2796480" y="5028120"/>
                  <a:ext cx="9324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2831400" y="4991400"/>
                  <a:ext cx="276840" cy="67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961360" y="502848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2811600" y="4983480"/>
                  <a:ext cx="9540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>
                  <a:off x="2882520" y="50349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H="1" flipV="1">
                  <a:off x="2794320" y="498456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H="1">
                  <a:off x="2882520" y="5025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V="1">
                  <a:off x="2882880" y="502524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2900160" y="502524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H="1" flipV="1">
                  <a:off x="2872440" y="5033520"/>
                  <a:ext cx="169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V="1">
                  <a:off x="2872800" y="5025240"/>
                  <a:ext cx="0" cy="1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H="1" flipV="1">
                  <a:off x="2796480" y="499104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H="1">
                  <a:off x="2794320" y="4983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796840" y="49849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799360" y="4983480"/>
                  <a:ext cx="100440" cy="4320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882880" y="502560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796840" y="4988160"/>
                  <a:ext cx="88200" cy="4824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9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882880" y="5025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 flipV="1">
                  <a:off x="2796480" y="4984560"/>
                  <a:ext cx="9324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831400" y="4948200"/>
                  <a:ext cx="276840" cy="6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961360" y="498348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811600" y="4939920"/>
                  <a:ext cx="9540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H="1">
                  <a:off x="2882520" y="49928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H="1" flipV="1">
                  <a:off x="2794320" y="4941360"/>
                  <a:ext cx="9540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>
                  <a:off x="2882520" y="4982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V="1">
                  <a:off x="2882880" y="4982040"/>
                  <a:ext cx="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2900160" y="4982040"/>
                  <a:ext cx="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 flipV="1">
                  <a:off x="2872440" y="4989600"/>
                  <a:ext cx="16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2872800" y="4981680"/>
                  <a:ext cx="0" cy="1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flipV="1">
                  <a:off x="2796480" y="4948200"/>
                  <a:ext cx="8316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>
                  <a:off x="2794320" y="49413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796840" y="4941360"/>
                  <a:ext cx="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799360" y="4939920"/>
                  <a:ext cx="100440" cy="4320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882880" y="498204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796840" y="4944600"/>
                  <a:ext cx="88200" cy="4680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8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882880" y="4982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flipV="1">
                  <a:off x="2796480" y="4941360"/>
                  <a:ext cx="9324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831400" y="4906080"/>
                  <a:ext cx="276840" cy="6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961360" y="494316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811600" y="4899600"/>
                  <a:ext cx="9540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>
                  <a:off x="2880000" y="4951440"/>
                  <a:ext cx="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 flipV="1">
                  <a:off x="2794320" y="4901040"/>
                  <a:ext cx="9540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H="1">
                  <a:off x="2882520" y="49413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V="1">
                  <a:off x="2880360" y="4941000"/>
                  <a:ext cx="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flipV="1">
                  <a:off x="2897280" y="4941000"/>
                  <a:ext cx="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 flipV="1">
                  <a:off x="2870280" y="4948200"/>
                  <a:ext cx="169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V="1">
                  <a:off x="2870640" y="4941360"/>
                  <a:ext cx="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 flipV="1">
                  <a:off x="2794320" y="490572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>
                  <a:off x="2794320" y="4899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2796840" y="4899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2799360" y="4899600"/>
                  <a:ext cx="100440" cy="4320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2882880" y="49413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796840" y="4904640"/>
                  <a:ext cx="86040" cy="46800"/>
                </a:xfrm>
                <a:custGeom>
                  <a:avLst/>
                  <a:gdLst/>
                  <a:ahLst/>
                  <a:rect l="l" t="t" r="r" b="b"/>
                  <a:pathLst>
                    <a:path w="35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2"/>
                      </a:lnTo>
                      <a:lnTo>
                        <a:pt x="30" y="26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882880" y="49413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 flipV="1">
                  <a:off x="2796480" y="4901040"/>
                  <a:ext cx="93240" cy="43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2831400" y="4862520"/>
                  <a:ext cx="276840" cy="709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2961360" y="489780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2811600" y="4854240"/>
                  <a:ext cx="9540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>
                  <a:off x="2882520" y="49093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H="1" flipV="1">
                  <a:off x="2794320" y="4857840"/>
                  <a:ext cx="9540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2882520" y="4899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V="1">
                  <a:off x="2882880" y="4899600"/>
                  <a:ext cx="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V="1">
                  <a:off x="2900160" y="4899600"/>
                  <a:ext cx="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 flipV="1">
                  <a:off x="2872440" y="4904640"/>
                  <a:ext cx="1692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V="1">
                  <a:off x="2872800" y="4899600"/>
                  <a:ext cx="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 flipV="1">
                  <a:off x="2796480" y="4863960"/>
                  <a:ext cx="8316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>
                  <a:off x="2794320" y="4856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2796840" y="485604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2799360" y="4856040"/>
                  <a:ext cx="100440" cy="4464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2882880" y="489960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2796840" y="485928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2882880" y="4899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flipH="1" flipV="1">
                  <a:off x="2796480" y="4858920"/>
                  <a:ext cx="9324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2831400" y="4820760"/>
                  <a:ext cx="276840" cy="67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2961360" y="485928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811600" y="4814280"/>
                  <a:ext cx="9540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flipH="1">
                  <a:off x="2880000" y="4865760"/>
                  <a:ext cx="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flipV="1">
                  <a:off x="2794320" y="481536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>
                  <a:off x="2882520" y="4856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V="1">
                  <a:off x="2880360" y="485568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V="1">
                  <a:off x="2897280" y="485568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flipV="1">
                  <a:off x="2870280" y="4863960"/>
                  <a:ext cx="16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V="1">
                  <a:off x="2870640" y="485568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flipV="1">
                  <a:off x="2794320" y="482184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>
                  <a:off x="2794320" y="48142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796840" y="481428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2799360" y="4814280"/>
                  <a:ext cx="100440" cy="4320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2882880" y="485604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2796840" y="4817520"/>
                  <a:ext cx="86040" cy="4968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4"/>
                      </a:lnTo>
                      <a:lnTo>
                        <a:pt x="30" y="27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2882880" y="4856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2796480" y="4815360"/>
                  <a:ext cx="9324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2811600" y="483336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2811600" y="4873680"/>
                  <a:ext cx="0" cy="3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811600" y="491724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811600" y="495936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811600" y="500292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811600" y="504648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11600" y="508680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94680" y="4825440"/>
                  <a:ext cx="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794680" y="486576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794680" y="490932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794680" y="4949640"/>
                  <a:ext cx="0" cy="4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794680" y="4995000"/>
                  <a:ext cx="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794680" y="503640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94680" y="5080320"/>
                  <a:ext cx="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87480" y="4811040"/>
                  <a:ext cx="0" cy="30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2787480" y="5104440"/>
                  <a:ext cx="144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2794680" y="5109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2787480" y="481104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2787480" y="4811040"/>
                  <a:ext cx="169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96840" y="482544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2796840" y="48657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8"/>
                      </a:lnTo>
                      <a:lnTo>
                        <a:pt x="0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796840" y="4907880"/>
                  <a:ext cx="414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2796840" y="4949640"/>
                  <a:ext cx="41400" cy="338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796840" y="499500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3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2794680" y="5078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794680" y="5034960"/>
                  <a:ext cx="4140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21"/>
                      </a:lnTo>
                      <a:lnTo>
                        <a:pt x="0" y="2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2787480" y="4814280"/>
                  <a:ext cx="41400" cy="293400"/>
                </a:xfrm>
                <a:custGeom>
                  <a:avLst/>
                  <a:gdLst/>
                  <a:ahLst/>
                  <a:rect l="l" t="t" r="r" b="b"/>
                  <a:pathLst>
                    <a:path w="17" h="182">
                      <a:moveTo>
                        <a:pt x="0" y="0"/>
                      </a:moveTo>
                      <a:lnTo>
                        <a:pt x="16" y="2"/>
                      </a:lnTo>
                      <a:lnTo>
                        <a:pt x="13" y="181"/>
                      </a:lnTo>
                      <a:lnTo>
                        <a:pt x="0" y="17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87480" y="481104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>
                  <a:off x="2794320" y="51753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1" name=""/>
            <p:cNvSpPr/>
            <p:nvPr/>
          </p:nvSpPr>
          <p:spPr>
            <a:xfrm rot="540000">
              <a:off x="1303200" y="5016240"/>
              <a:ext cx="569880" cy="5983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rot="540000">
              <a:off x="1334880" y="4299120"/>
              <a:ext cx="442800" cy="4680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rot="540000">
              <a:off x="1720440" y="4316040"/>
              <a:ext cx="360360" cy="3780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rot="540000">
              <a:off x="1987200" y="4791240"/>
              <a:ext cx="568440" cy="6015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rot="540000">
              <a:off x="861480" y="4857840"/>
              <a:ext cx="657360" cy="6904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rot="540000">
              <a:off x="1779480" y="5101920"/>
              <a:ext cx="486000" cy="5126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rot="540000">
              <a:off x="701640" y="4936680"/>
              <a:ext cx="360360" cy="3762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rot="540000">
              <a:off x="701280" y="4620960"/>
              <a:ext cx="360360" cy="3776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rot="540000">
              <a:off x="900000" y="4319280"/>
              <a:ext cx="569880" cy="5983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rot="540000">
              <a:off x="2106720" y="4578120"/>
              <a:ext cx="446040" cy="46512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rot="540000">
              <a:off x="2009880" y="4416480"/>
              <a:ext cx="403200" cy="4190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65080" y="4381560"/>
              <a:ext cx="1600200" cy="1109520"/>
            </a:xfrm>
            <a:custGeom>
              <a:avLst/>
              <a:gdLst/>
              <a:ahLst/>
              <a:rect l="l" t="t" r="r" b="b"/>
              <a:pathLst>
                <a:path w="936" h="548">
                  <a:moveTo>
                    <a:pt x="316" y="34"/>
                  </a:moveTo>
                  <a:lnTo>
                    <a:pt x="362" y="0"/>
                  </a:lnTo>
                  <a:lnTo>
                    <a:pt x="537" y="31"/>
                  </a:lnTo>
                  <a:lnTo>
                    <a:pt x="663" y="32"/>
                  </a:lnTo>
                  <a:lnTo>
                    <a:pt x="809" y="124"/>
                  </a:lnTo>
                  <a:lnTo>
                    <a:pt x="890" y="118"/>
                  </a:lnTo>
                  <a:lnTo>
                    <a:pt x="932" y="131"/>
                  </a:lnTo>
                  <a:lnTo>
                    <a:pt x="914" y="299"/>
                  </a:lnTo>
                  <a:lnTo>
                    <a:pt x="935" y="330"/>
                  </a:lnTo>
                  <a:lnTo>
                    <a:pt x="842" y="447"/>
                  </a:lnTo>
                  <a:lnTo>
                    <a:pt x="777" y="347"/>
                  </a:lnTo>
                  <a:lnTo>
                    <a:pt x="748" y="388"/>
                  </a:lnTo>
                  <a:lnTo>
                    <a:pt x="610" y="547"/>
                  </a:lnTo>
                  <a:lnTo>
                    <a:pt x="230" y="536"/>
                  </a:lnTo>
                  <a:lnTo>
                    <a:pt x="44" y="471"/>
                  </a:lnTo>
                  <a:lnTo>
                    <a:pt x="0" y="352"/>
                  </a:lnTo>
                  <a:lnTo>
                    <a:pt x="18" y="240"/>
                  </a:lnTo>
                  <a:lnTo>
                    <a:pt x="3" y="141"/>
                  </a:lnTo>
                  <a:lnTo>
                    <a:pt x="316" y="34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rot="10800000">
              <a:off x="5397480" y="4699080"/>
              <a:ext cx="711360" cy="380880"/>
            </a:xfrm>
            <a:prstGeom prst="rightArrow">
              <a:avLst>
                <a:gd name="adj1" fmla="val 50000"/>
                <a:gd name="adj2" fmla="val 46692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10800000">
              <a:off x="3238200" y="4711680"/>
              <a:ext cx="393480" cy="380880"/>
            </a:xfrm>
            <a:prstGeom prst="rightArrow">
              <a:avLst>
                <a:gd name="adj1" fmla="val 50000"/>
                <a:gd name="adj2" fmla="val 25827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0800000">
              <a:off x="2387520" y="4762080"/>
              <a:ext cx="393840" cy="381240"/>
            </a:xfrm>
            <a:prstGeom prst="rightArrow">
              <a:avLst>
                <a:gd name="adj1" fmla="val 50000"/>
                <a:gd name="adj2" fmla="val 25826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02520" y="4575240"/>
              <a:ext cx="135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Interne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0" y="146052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095560" y="1249200"/>
            <a:ext cx="2279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025880" y="142236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P Trans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327680" y="584280"/>
            <a:ext cx="6280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ranscoding to Internet Video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"/>
          <p:cNvSpPr/>
          <p:nvPr/>
        </p:nvSpPr>
        <p:spPr>
          <a:xfrm>
            <a:off x="1316520" y="555480"/>
            <a:ext cx="7500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imitations of Interframe Trans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830840" y="1673280"/>
            <a:ext cx="733320" cy="65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103640" y="1673280"/>
            <a:ext cx="733320" cy="65088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830840" y="2341440"/>
            <a:ext cx="733320" cy="65088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103640" y="2341440"/>
            <a:ext cx="733320" cy="650880"/>
          </a:xfrm>
          <a:prstGeom prst="rect">
            <a:avLst/>
          </a:prstGeom>
          <a:solidFill>
            <a:srgbClr val="faf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9640" y="2308320"/>
            <a:ext cx="851040" cy="433440"/>
          </a:xfrm>
          <a:custGeom>
            <a:avLst/>
            <a:gdLst>
              <a:gd name="textAreaLeft" fmla="*/ 132840 w 851040"/>
              <a:gd name="textAreaRight" fmla="*/ 744840 w 8510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201080" y="2190600"/>
            <a:ext cx="733320" cy="650880"/>
          </a:xfrm>
          <a:prstGeom prst="rect">
            <a:avLst/>
          </a:prstGeom>
          <a:solidFill>
            <a:srgbClr val="ffb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3865680" y="1471680"/>
            <a:ext cx="4233600" cy="1747800"/>
            <a:chOff x="3865680" y="1471680"/>
            <a:chExt cx="4233600" cy="1747800"/>
          </a:xfrm>
        </p:grpSpPr>
        <p:sp>
          <p:nvSpPr>
            <p:cNvPr id="2309" name=""/>
            <p:cNvSpPr/>
            <p:nvPr/>
          </p:nvSpPr>
          <p:spPr>
            <a:xfrm>
              <a:off x="4835520" y="2336760"/>
              <a:ext cx="28728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070600" y="2465280"/>
              <a:ext cx="733320" cy="650880"/>
            </a:xfrm>
            <a:prstGeom prst="rect">
              <a:avLst/>
            </a:prstGeom>
            <a:solidFill>
              <a:srgbClr val="b9ffa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835520" y="1673280"/>
              <a:ext cx="38880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229360" y="1768320"/>
              <a:ext cx="733320" cy="65088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968640" y="1494000"/>
              <a:ext cx="733680" cy="650880"/>
            </a:xfrm>
            <a:prstGeom prst="rect">
              <a:avLst/>
            </a:prstGeom>
            <a:solidFill>
              <a:srgbClr val="ffddd5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 flipV="1">
              <a:off x="3954240" y="1471680"/>
              <a:ext cx="12996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3868560" y="2322360"/>
              <a:ext cx="24480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65680" y="2568600"/>
              <a:ext cx="733320" cy="650880"/>
            </a:xfrm>
            <a:prstGeom prst="rect">
              <a:avLst/>
            </a:prstGeom>
            <a:solidFill>
              <a:srgbClr val="faf782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201080" y="2192400"/>
              <a:ext cx="1584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365960" y="2446200"/>
              <a:ext cx="733320" cy="650880"/>
            </a:xfrm>
            <a:prstGeom prst="rect">
              <a:avLst/>
            </a:prstGeom>
            <a:solidFill>
              <a:srgbClr val="ff00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9" name=""/>
          <p:cNvSpPr/>
          <p:nvPr/>
        </p:nvSpPr>
        <p:spPr>
          <a:xfrm>
            <a:off x="633240" y="1646280"/>
            <a:ext cx="3059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al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tion compens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ro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727200" y="3719520"/>
            <a:ext cx="6867360" cy="2322360"/>
            <a:chOff x="727200" y="3719520"/>
            <a:chExt cx="6867360" cy="2322360"/>
          </a:xfrm>
        </p:grpSpPr>
        <p:grpSp>
          <p:nvGrpSpPr>
            <p:cNvPr id="2321" name=""/>
            <p:cNvGrpSpPr/>
            <p:nvPr/>
          </p:nvGrpSpPr>
          <p:grpSpPr>
            <a:xfrm>
              <a:off x="4537080" y="3719520"/>
              <a:ext cx="3057480" cy="2322360"/>
              <a:chOff x="4537080" y="3719520"/>
              <a:chExt cx="3057480" cy="2322360"/>
            </a:xfrm>
          </p:grpSpPr>
          <p:sp>
            <p:nvSpPr>
              <p:cNvPr id="2322" name=""/>
              <p:cNvSpPr/>
              <p:nvPr/>
            </p:nvSpPr>
            <p:spPr>
              <a:xfrm>
                <a:off x="4818240" y="4089240"/>
                <a:ext cx="2381040" cy="1952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543640" y="3719520"/>
                <a:ext cx="422280" cy="2667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970600" y="385272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118200" y="3719520"/>
                <a:ext cx="420840" cy="2667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543720" y="385272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881760" y="3719520"/>
                <a:ext cx="422280" cy="26676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L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475320" y="4221000"/>
                <a:ext cx="422280" cy="2667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475320" y="4722840"/>
                <a:ext cx="422280" cy="26676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CT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537080" y="3852720"/>
                <a:ext cx="620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253120" y="3852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686640" y="3852720"/>
                <a:ext cx="0" cy="36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686640" y="4994280"/>
                <a:ext cx="0" cy="27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411960" y="5359320"/>
                <a:ext cx="276120" cy="365040"/>
              </a:xfrm>
              <a:custGeom>
                <a:avLst/>
                <a:gdLst/>
                <a:ahLst/>
                <a:rect l="l" t="t" r="r" b="b"/>
                <a:pathLst>
                  <a:path w="277" h="385">
                    <a:moveTo>
                      <a:pt x="276" y="0"/>
                    </a:moveTo>
                    <a:lnTo>
                      <a:pt x="276" y="384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205600" y="3898800"/>
                <a:ext cx="239400" cy="1825560"/>
              </a:xfrm>
              <a:custGeom>
                <a:avLst/>
                <a:gdLst/>
                <a:ahLst/>
                <a:rect l="l" t="t" r="r" b="b"/>
                <a:pathLst>
                  <a:path w="241" h="1921">
                    <a:moveTo>
                      <a:pt x="0" y="0"/>
                    </a:moveTo>
                    <a:lnTo>
                      <a:pt x="0" y="1920"/>
                    </a:lnTo>
                    <a:lnTo>
                      <a:pt x="240" y="192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205600" y="5313240"/>
                <a:ext cx="14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307280" y="38527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543640" y="5624640"/>
                <a:ext cx="852480" cy="2664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680160" y="4481640"/>
                <a:ext cx="0" cy="27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627960" y="5251320"/>
                <a:ext cx="9972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146560" y="3808440"/>
                <a:ext cx="100080" cy="10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170680" y="4089240"/>
                <a:ext cx="15714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Mo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Compens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3" name=""/>
            <p:cNvSpPr/>
            <p:nvPr/>
          </p:nvSpPr>
          <p:spPr>
            <a:xfrm>
              <a:off x="727200" y="4208400"/>
              <a:ext cx="33764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ransco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has no drift cor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for B and P - Frames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/>
          <p:nvPr/>
        </p:nvSpPr>
        <p:spPr>
          <a:xfrm>
            <a:off x="291960" y="1917720"/>
            <a:ext cx="1536840" cy="101592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M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:2:2 / I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222640" y="1917720"/>
            <a:ext cx="1536480" cy="10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:2: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:2: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971800" y="2413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165560" y="1955880"/>
            <a:ext cx="1536840" cy="10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146640" y="1930320"/>
            <a:ext cx="1778040" cy="10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EG2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mquant 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1828800" y="2247840"/>
            <a:ext cx="393840" cy="381240"/>
          </a:xfrm>
          <a:prstGeom prst="rightArrow">
            <a:avLst>
              <a:gd name="adj1" fmla="val 50000"/>
              <a:gd name="adj2" fmla="val 2582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784680" y="2222640"/>
            <a:ext cx="393480" cy="380880"/>
          </a:xfrm>
          <a:prstGeom prst="rightArrow">
            <a:avLst>
              <a:gd name="adj1" fmla="val 50000"/>
              <a:gd name="adj2" fmla="val 2582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7378560" y="4218120"/>
            <a:ext cx="1536480" cy="1498320"/>
            <a:chOff x="7378560" y="4218120"/>
            <a:chExt cx="1536480" cy="1498320"/>
          </a:xfrm>
        </p:grpSpPr>
        <p:grpSp>
          <p:nvGrpSpPr>
            <p:cNvPr id="2352" name=""/>
            <p:cNvGrpSpPr/>
            <p:nvPr/>
          </p:nvGrpSpPr>
          <p:grpSpPr>
            <a:xfrm>
              <a:off x="7378560" y="4611600"/>
              <a:ext cx="1536480" cy="1104840"/>
              <a:chOff x="7378560" y="4611600"/>
              <a:chExt cx="1536480" cy="1104840"/>
            </a:xfrm>
          </p:grpSpPr>
          <p:sp>
            <p:nvSpPr>
              <p:cNvPr id="2353" name=""/>
              <p:cNvSpPr/>
              <p:nvPr/>
            </p:nvSpPr>
            <p:spPr>
              <a:xfrm>
                <a:off x="7378560" y="4611600"/>
                <a:ext cx="1536480" cy="1104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empo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cal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5  16 f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(30  20 fp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4320" y="5297400"/>
                <a:ext cx="10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49880" y="5576760"/>
                <a:ext cx="10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 rot="5400000">
              <a:off x="7962840" y="4224240"/>
              <a:ext cx="393480" cy="380880"/>
            </a:xfrm>
            <a:prstGeom prst="rightArrow">
              <a:avLst>
                <a:gd name="adj1" fmla="val 50000"/>
                <a:gd name="adj2" fmla="val 25827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7" name=""/>
          <p:cNvSpPr/>
          <p:nvPr/>
        </p:nvSpPr>
        <p:spPr>
          <a:xfrm>
            <a:off x="0" y="14605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095560" y="1308240"/>
            <a:ext cx="1947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or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203720" y="1422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F - Sc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330920" y="469800"/>
            <a:ext cx="393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cessing Step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727600" y="2235240"/>
            <a:ext cx="393840" cy="380880"/>
          </a:xfrm>
          <a:prstGeom prst="rightArrow">
            <a:avLst>
              <a:gd name="adj1" fmla="val 50000"/>
              <a:gd name="adj2" fmla="val 25851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937640" y="2247840"/>
            <a:ext cx="571320" cy="381240"/>
          </a:xfrm>
          <a:prstGeom prst="rightArrow">
            <a:avLst>
              <a:gd name="adj1" fmla="val 50000"/>
              <a:gd name="adj2" fmla="val 37465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7188120" y="2546280"/>
            <a:ext cx="1778040" cy="1657440"/>
            <a:chOff x="7188120" y="2546280"/>
            <a:chExt cx="1778040" cy="1657440"/>
          </a:xfrm>
        </p:grpSpPr>
        <p:sp>
          <p:nvSpPr>
            <p:cNvPr id="2364" name=""/>
            <p:cNvSpPr/>
            <p:nvPr/>
          </p:nvSpPr>
          <p:spPr>
            <a:xfrm rot="5400000">
              <a:off x="7829280" y="2679480"/>
              <a:ext cx="647640" cy="381240"/>
            </a:xfrm>
            <a:prstGeom prst="rightArrow">
              <a:avLst>
                <a:gd name="adj1" fmla="val 50000"/>
                <a:gd name="adj2" fmla="val 42469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188120" y="3187800"/>
              <a:ext cx="1778040" cy="101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quant sca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QCIF -scal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6" name=""/>
          <p:cNvSpPr/>
          <p:nvPr/>
        </p:nvSpPr>
        <p:spPr>
          <a:xfrm>
            <a:off x="7632720" y="129528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rowsing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7" name=""/>
          <p:cNvGrpSpPr/>
          <p:nvPr/>
        </p:nvGrpSpPr>
        <p:grpSpPr>
          <a:xfrm>
            <a:off x="1622160" y="4362480"/>
            <a:ext cx="5731200" cy="1394640"/>
            <a:chOff x="1622160" y="4362480"/>
            <a:chExt cx="5731200" cy="1394640"/>
          </a:xfrm>
        </p:grpSpPr>
        <p:grpSp>
          <p:nvGrpSpPr>
            <p:cNvPr id="2368" name=""/>
            <p:cNvGrpSpPr/>
            <p:nvPr/>
          </p:nvGrpSpPr>
          <p:grpSpPr>
            <a:xfrm>
              <a:off x="3983040" y="4821120"/>
              <a:ext cx="479520" cy="745560"/>
              <a:chOff x="3983040" y="4821120"/>
              <a:chExt cx="479520" cy="745560"/>
            </a:xfrm>
          </p:grpSpPr>
          <p:grpSp>
            <p:nvGrpSpPr>
              <p:cNvPr id="2369" name=""/>
              <p:cNvGrpSpPr/>
              <p:nvPr/>
            </p:nvGrpSpPr>
            <p:grpSpPr>
              <a:xfrm>
                <a:off x="3983040" y="4821120"/>
                <a:ext cx="479520" cy="745560"/>
                <a:chOff x="3983040" y="4821120"/>
                <a:chExt cx="479520" cy="745560"/>
              </a:xfrm>
            </p:grpSpPr>
            <p:sp>
              <p:nvSpPr>
                <p:cNvPr id="2370" name=""/>
                <p:cNvSpPr/>
                <p:nvPr/>
              </p:nvSpPr>
              <p:spPr>
                <a:xfrm>
                  <a:off x="3985200" y="4908600"/>
                  <a:ext cx="438840" cy="653400"/>
                </a:xfrm>
                <a:custGeom>
                  <a:avLst/>
                  <a:gdLst/>
                  <a:ahLst/>
                  <a:rect l="l" t="t" r="r" b="b"/>
                  <a:pathLst>
                    <a:path w="179" h="403">
                      <a:moveTo>
                        <a:pt x="178" y="0"/>
                      </a:moveTo>
                      <a:lnTo>
                        <a:pt x="0" y="0"/>
                      </a:lnTo>
                      <a:lnTo>
                        <a:pt x="0" y="402"/>
                      </a:lnTo>
                      <a:lnTo>
                        <a:pt x="178" y="402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4421160" y="4821120"/>
                  <a:ext cx="41400" cy="745560"/>
                </a:xfrm>
                <a:custGeom>
                  <a:avLst/>
                  <a:gdLst/>
                  <a:ahLst/>
                  <a:rect l="l" t="t" r="r" b="b"/>
                  <a:pathLst>
                    <a:path w="17" h="460">
                      <a:moveTo>
                        <a:pt x="16" y="26"/>
                      </a:moveTo>
                      <a:lnTo>
                        <a:pt x="15" y="396"/>
                      </a:lnTo>
                      <a:lnTo>
                        <a:pt x="0" y="459"/>
                      </a:lnTo>
                      <a:lnTo>
                        <a:pt x="0" y="117"/>
                      </a:lnTo>
                      <a:lnTo>
                        <a:pt x="0" y="81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6" y="26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985200" y="5506920"/>
                  <a:ext cx="43380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983040" y="4999320"/>
                  <a:ext cx="43308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4217760" y="495036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30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6" y="3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985200" y="4825800"/>
                  <a:ext cx="475560" cy="83880"/>
                </a:xfrm>
                <a:custGeom>
                  <a:avLst/>
                  <a:gdLst/>
                  <a:ahLst/>
                  <a:rect l="l" t="t" r="r" b="b"/>
                  <a:pathLst>
                    <a:path w="194" h="52">
                      <a:moveTo>
                        <a:pt x="0" y="51"/>
                      </a:moveTo>
                      <a:lnTo>
                        <a:pt x="29" y="0"/>
                      </a:lnTo>
                      <a:lnTo>
                        <a:pt x="193" y="0"/>
                      </a:lnTo>
                      <a:lnTo>
                        <a:pt x="177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6" name=""/>
                <p:cNvGrpSpPr/>
                <p:nvPr/>
              </p:nvGrpSpPr>
              <p:grpSpPr>
                <a:xfrm>
                  <a:off x="3994920" y="4914720"/>
                  <a:ext cx="416160" cy="47880"/>
                  <a:chOff x="3994920" y="4914720"/>
                  <a:chExt cx="416160" cy="47880"/>
                </a:xfrm>
              </p:grpSpPr>
              <p:sp>
                <p:nvSpPr>
                  <p:cNvPr id="2377" name=""/>
                  <p:cNvSpPr/>
                  <p:nvPr/>
                </p:nvSpPr>
                <p:spPr>
                  <a:xfrm>
                    <a:off x="3994920" y="4914720"/>
                    <a:ext cx="416160" cy="37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78" name=""/>
                  <p:cNvGrpSpPr/>
                  <p:nvPr/>
                </p:nvGrpSpPr>
                <p:grpSpPr>
                  <a:xfrm>
                    <a:off x="4002120" y="4914720"/>
                    <a:ext cx="400680" cy="47880"/>
                    <a:chOff x="4002120" y="4914720"/>
                    <a:chExt cx="400680" cy="47880"/>
                  </a:xfrm>
                </p:grpSpPr>
                <p:sp>
                  <p:nvSpPr>
                    <p:cNvPr id="2379" name=""/>
                    <p:cNvSpPr/>
                    <p:nvPr/>
                  </p:nvSpPr>
                  <p:spPr>
                    <a:xfrm>
                      <a:off x="4002120" y="4914720"/>
                      <a:ext cx="400680" cy="3492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>
                      <a:off x="4011840" y="4922640"/>
                      <a:ext cx="19080" cy="1296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/>
                    <p:nvPr/>
                  </p:nvSpPr>
                  <p:spPr>
                    <a:xfrm>
                      <a:off x="4011840" y="4949640"/>
                      <a:ext cx="19080" cy="12960"/>
                    </a:xfrm>
                    <a:prstGeom prst="rect">
                      <a:avLst/>
                    </a:pr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82" name=""/>
                <p:cNvSpPr/>
                <p:nvPr/>
              </p:nvSpPr>
              <p:spPr>
                <a:xfrm>
                  <a:off x="3985200" y="5466600"/>
                  <a:ext cx="433800" cy="2736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3" name=""/>
              <p:cNvGrpSpPr/>
              <p:nvPr/>
            </p:nvGrpSpPr>
            <p:grpSpPr>
              <a:xfrm>
                <a:off x="4024080" y="5073120"/>
                <a:ext cx="320760" cy="364680"/>
                <a:chOff x="4024080" y="5073120"/>
                <a:chExt cx="320760" cy="36468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4068000" y="5339520"/>
                  <a:ext cx="276840" cy="676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197960" y="537516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48200" y="533160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4119120" y="53845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 flipV="1">
                  <a:off x="4030920" y="533448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>
                  <a:off x="4119120" y="53751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V="1">
                  <a:off x="4119480" y="537480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V="1">
                  <a:off x="4136760" y="537480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 flipV="1">
                  <a:off x="4109040" y="5378400"/>
                  <a:ext cx="1692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V="1">
                  <a:off x="4109400" y="537480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4033080" y="5337720"/>
                  <a:ext cx="83160" cy="4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>
                  <a:off x="4030920" y="5331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033440" y="533304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4035960" y="5331600"/>
                  <a:ext cx="100440" cy="4500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4119480" y="5375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4033440" y="533628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4119480" y="53751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H="1" flipV="1">
                  <a:off x="4033080" y="5334480"/>
                  <a:ext cx="9324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4068000" y="5297400"/>
                  <a:ext cx="276840" cy="709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4197960" y="533304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4048200" y="5289480"/>
                  <a:ext cx="9540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>
                  <a:off x="4119120" y="53427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H="1" flipV="1">
                  <a:off x="4030920" y="5290920"/>
                  <a:ext cx="95400" cy="4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>
                  <a:off x="4119120" y="5331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V="1">
                  <a:off x="4119480" y="533124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4136760" y="533124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4109040" y="5337360"/>
                  <a:ext cx="1692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4109400" y="533124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 flipV="1">
                  <a:off x="4033080" y="529704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>
                  <a:off x="4030920" y="5289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4033440" y="5290920"/>
                  <a:ext cx="0" cy="1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4035960" y="5289480"/>
                  <a:ext cx="100440" cy="4356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4119480" y="533160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4033440" y="529272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4119480" y="53316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4033080" y="5290920"/>
                  <a:ext cx="93240" cy="4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4068000" y="5253840"/>
                  <a:ext cx="276840" cy="676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4197960" y="529092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4048200" y="524592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>
                  <a:off x="4119120" y="52974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4030920" y="5247360"/>
                  <a:ext cx="9540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>
                  <a:off x="4119120" y="52876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V="1">
                  <a:off x="4119480" y="528732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V="1">
                  <a:off x="4136760" y="528732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 flipV="1">
                  <a:off x="4109040" y="5295960"/>
                  <a:ext cx="169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V="1">
                  <a:off x="4109400" y="5287320"/>
                  <a:ext cx="0" cy="1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4033080" y="525348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H="1">
                  <a:off x="4030920" y="52459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4033440" y="524736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4035960" y="5245920"/>
                  <a:ext cx="100440" cy="4356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4119480" y="528768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4033440" y="5250600"/>
                  <a:ext cx="88200" cy="4824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9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4119480" y="52876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H="1" flipV="1">
                  <a:off x="4033080" y="5247360"/>
                  <a:ext cx="9324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4068000" y="5210280"/>
                  <a:ext cx="276840" cy="6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4197960" y="524592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048200" y="520236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4119120" y="52552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flipH="1" flipV="1">
                  <a:off x="4030920" y="520344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flipH="1">
                  <a:off x="4119120" y="52441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4119480" y="5244120"/>
                  <a:ext cx="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flipV="1">
                  <a:off x="4136760" y="5244120"/>
                  <a:ext cx="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flipV="1">
                  <a:off x="4109040" y="5252040"/>
                  <a:ext cx="16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V="1">
                  <a:off x="4109400" y="5243760"/>
                  <a:ext cx="0" cy="1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 flipV="1">
                  <a:off x="4033080" y="5210280"/>
                  <a:ext cx="8316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>
                  <a:off x="4030920" y="52038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4033440" y="5203800"/>
                  <a:ext cx="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4035960" y="5202360"/>
                  <a:ext cx="100440" cy="4356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4119480" y="524412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4033440" y="5207040"/>
                  <a:ext cx="88200" cy="4680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8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4119480" y="524412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4033080" y="5203440"/>
                  <a:ext cx="9324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4068000" y="5168160"/>
                  <a:ext cx="276840" cy="6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197960" y="5205600"/>
                  <a:ext cx="19440" cy="126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048200" y="516204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>
                  <a:off x="4116600" y="5213520"/>
                  <a:ext cx="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 flipV="1">
                  <a:off x="4030920" y="5163120"/>
                  <a:ext cx="9540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flipH="1">
                  <a:off x="4119120" y="52038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flipV="1">
                  <a:off x="4116960" y="5203440"/>
                  <a:ext cx="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V="1">
                  <a:off x="4133880" y="5203440"/>
                  <a:ext cx="0" cy="1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4106880" y="5210280"/>
                  <a:ext cx="1692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V="1">
                  <a:off x="4107240" y="5203800"/>
                  <a:ext cx="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 flipV="1">
                  <a:off x="4030920" y="516780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flipH="1">
                  <a:off x="4030920" y="5162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033440" y="516204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4035960" y="5162040"/>
                  <a:ext cx="100440" cy="4356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4119480" y="520380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4033440" y="5166720"/>
                  <a:ext cx="86040" cy="46800"/>
                </a:xfrm>
                <a:custGeom>
                  <a:avLst/>
                  <a:gdLst/>
                  <a:ahLst/>
                  <a:rect l="l" t="t" r="r" b="b"/>
                  <a:pathLst>
                    <a:path w="35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2"/>
                      </a:lnTo>
                      <a:lnTo>
                        <a:pt x="30" y="26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4119480" y="52038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4033080" y="5163120"/>
                  <a:ext cx="9324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068000" y="5124600"/>
                  <a:ext cx="276840" cy="709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197960" y="516024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048200" y="5116680"/>
                  <a:ext cx="9540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H="1">
                  <a:off x="4119120" y="51714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flipV="1">
                  <a:off x="4030920" y="5119920"/>
                  <a:ext cx="9540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>
                  <a:off x="4119120" y="5162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V="1">
                  <a:off x="4119480" y="5162040"/>
                  <a:ext cx="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V="1">
                  <a:off x="4136760" y="5162040"/>
                  <a:ext cx="0" cy="1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 flipV="1">
                  <a:off x="4109040" y="5166720"/>
                  <a:ext cx="1692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V="1">
                  <a:off x="4109400" y="5162040"/>
                  <a:ext cx="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 flipV="1">
                  <a:off x="4033080" y="5126040"/>
                  <a:ext cx="8316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>
                  <a:off x="4030920" y="5118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4033440" y="511848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4035960" y="5118480"/>
                  <a:ext cx="100440" cy="4500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4119480" y="516204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4033440" y="5121360"/>
                  <a:ext cx="88200" cy="5004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4119480" y="516204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flipV="1">
                  <a:off x="4033080" y="5121360"/>
                  <a:ext cx="9324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068000" y="5082840"/>
                  <a:ext cx="276840" cy="676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4197960" y="5121360"/>
                  <a:ext cx="19440" cy="129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4048200" y="5076360"/>
                  <a:ext cx="954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4116600" y="5127840"/>
                  <a:ext cx="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 flipV="1">
                  <a:off x="4030920" y="5077800"/>
                  <a:ext cx="9540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>
                  <a:off x="4119120" y="5118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V="1">
                  <a:off x="4116960" y="511812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V="1">
                  <a:off x="4133880" y="5118120"/>
                  <a:ext cx="0" cy="1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 flipV="1">
                  <a:off x="4106880" y="5126040"/>
                  <a:ext cx="16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V="1">
                  <a:off x="4107240" y="511812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flipV="1">
                  <a:off x="4030920" y="5083920"/>
                  <a:ext cx="8316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>
                  <a:off x="4030920" y="50763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4033440" y="5076360"/>
                  <a:ext cx="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4035960" y="5076360"/>
                  <a:ext cx="100440" cy="4356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4119480" y="511848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4033440" y="5079600"/>
                  <a:ext cx="86040" cy="4968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4"/>
                      </a:lnTo>
                      <a:lnTo>
                        <a:pt x="30" y="27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4119480" y="511848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 flipV="1">
                  <a:off x="4033080" y="5077800"/>
                  <a:ext cx="9324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4048200" y="509580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4048200" y="5135760"/>
                  <a:ext cx="0" cy="3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4048200" y="517932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4048200" y="522144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4048200" y="5265000"/>
                  <a:ext cx="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4048200" y="530856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048200" y="5348880"/>
                  <a:ext cx="0" cy="3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4031280" y="5087520"/>
                  <a:ext cx="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4031280" y="512784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031280" y="517140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4031280" y="5211720"/>
                  <a:ext cx="0" cy="4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4031280" y="5257080"/>
                  <a:ext cx="0" cy="3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031280" y="5298840"/>
                  <a:ext cx="0" cy="38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4031280" y="5342760"/>
                  <a:ext cx="0" cy="3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4024080" y="5073120"/>
                  <a:ext cx="0" cy="30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4024080" y="5366880"/>
                  <a:ext cx="144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4031280" y="537156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4024080" y="5073120"/>
                  <a:ext cx="26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4024080" y="5073120"/>
                  <a:ext cx="1692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4033440" y="508752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4033440" y="51278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8"/>
                      </a:lnTo>
                      <a:lnTo>
                        <a:pt x="0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4033440" y="5169960"/>
                  <a:ext cx="414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4033440" y="5211720"/>
                  <a:ext cx="41400" cy="3384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4033440" y="525708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3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031280" y="5340960"/>
                  <a:ext cx="41400" cy="3204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4031280" y="5297400"/>
                  <a:ext cx="4140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21"/>
                      </a:lnTo>
                      <a:lnTo>
                        <a:pt x="0" y="2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4024080" y="5076360"/>
                  <a:ext cx="41400" cy="293760"/>
                </a:xfrm>
                <a:custGeom>
                  <a:avLst/>
                  <a:gdLst/>
                  <a:ahLst/>
                  <a:rect l="l" t="t" r="r" b="b"/>
                  <a:pathLst>
                    <a:path w="17" h="182">
                      <a:moveTo>
                        <a:pt x="0" y="0"/>
                      </a:moveTo>
                      <a:lnTo>
                        <a:pt x="16" y="2"/>
                      </a:lnTo>
                      <a:lnTo>
                        <a:pt x="13" y="181"/>
                      </a:lnTo>
                      <a:lnTo>
                        <a:pt x="0" y="17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024080" y="507312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>
                  <a:off x="4030920" y="5437800"/>
                  <a:ext cx="2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9" name=""/>
            <p:cNvSpPr/>
            <p:nvPr/>
          </p:nvSpPr>
          <p:spPr>
            <a:xfrm rot="10800000">
              <a:off x="6642000" y="5041440"/>
              <a:ext cx="711360" cy="381240"/>
            </a:xfrm>
            <a:prstGeom prst="rightArrow">
              <a:avLst>
                <a:gd name="adj1" fmla="val 50000"/>
                <a:gd name="adj2" fmla="val 46648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rot="10800000">
              <a:off x="3530520" y="5049360"/>
              <a:ext cx="393840" cy="381240"/>
            </a:xfrm>
            <a:prstGeom prst="rightArrow">
              <a:avLst>
                <a:gd name="adj1" fmla="val 50000"/>
                <a:gd name="adj2" fmla="val 25826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1" name=""/>
            <p:cNvGrpSpPr/>
            <p:nvPr/>
          </p:nvGrpSpPr>
          <p:grpSpPr>
            <a:xfrm>
              <a:off x="1622160" y="4362480"/>
              <a:ext cx="1924560" cy="1394640"/>
              <a:chOff x="1622160" y="4362480"/>
              <a:chExt cx="1924560" cy="1394640"/>
            </a:xfrm>
          </p:grpSpPr>
          <p:sp>
            <p:nvSpPr>
              <p:cNvPr id="2542" name=""/>
              <p:cNvSpPr/>
              <p:nvPr/>
            </p:nvSpPr>
            <p:spPr>
              <a:xfrm rot="540000">
                <a:off x="2250720" y="5111280"/>
                <a:ext cx="569520" cy="59832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rot="540000">
                <a:off x="2282400" y="4394160"/>
                <a:ext cx="442440" cy="46800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540000">
                <a:off x="2667960" y="4411080"/>
                <a:ext cx="360000" cy="37800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rot="540000">
                <a:off x="2934720" y="4886280"/>
                <a:ext cx="568080" cy="60156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rot="540000">
                <a:off x="1809000" y="4952520"/>
                <a:ext cx="657000" cy="69048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540000">
                <a:off x="2714400" y="5209560"/>
                <a:ext cx="485280" cy="51264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rot="540000">
                <a:off x="1649520" y="5031720"/>
                <a:ext cx="360000" cy="37620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rot="540000">
                <a:off x="1649160" y="4716000"/>
                <a:ext cx="360000" cy="37764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540000">
                <a:off x="1847520" y="4414320"/>
                <a:ext cx="569520" cy="59832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540000">
                <a:off x="3054240" y="4673160"/>
                <a:ext cx="445680" cy="46512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540000">
                <a:off x="2957400" y="4511520"/>
                <a:ext cx="402840" cy="41904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812600" y="4476600"/>
                <a:ext cx="1599840" cy="1109520"/>
              </a:xfrm>
              <a:custGeom>
                <a:avLst/>
                <a:gdLst/>
                <a:ahLst/>
                <a:rect l="l" t="t" r="r" b="b"/>
                <a:pathLst>
                  <a:path w="936" h="548">
                    <a:moveTo>
                      <a:pt x="316" y="34"/>
                    </a:moveTo>
                    <a:lnTo>
                      <a:pt x="362" y="0"/>
                    </a:lnTo>
                    <a:lnTo>
                      <a:pt x="537" y="31"/>
                    </a:lnTo>
                    <a:lnTo>
                      <a:pt x="663" y="32"/>
                    </a:lnTo>
                    <a:lnTo>
                      <a:pt x="809" y="124"/>
                    </a:lnTo>
                    <a:lnTo>
                      <a:pt x="890" y="118"/>
                    </a:lnTo>
                    <a:lnTo>
                      <a:pt x="932" y="131"/>
                    </a:lnTo>
                    <a:lnTo>
                      <a:pt x="914" y="299"/>
                    </a:lnTo>
                    <a:lnTo>
                      <a:pt x="935" y="330"/>
                    </a:lnTo>
                    <a:lnTo>
                      <a:pt x="842" y="447"/>
                    </a:lnTo>
                    <a:lnTo>
                      <a:pt x="777" y="347"/>
                    </a:lnTo>
                    <a:lnTo>
                      <a:pt x="748" y="388"/>
                    </a:lnTo>
                    <a:lnTo>
                      <a:pt x="610" y="547"/>
                    </a:lnTo>
                    <a:lnTo>
                      <a:pt x="230" y="536"/>
                    </a:lnTo>
                    <a:lnTo>
                      <a:pt x="44" y="471"/>
                    </a:lnTo>
                    <a:lnTo>
                      <a:pt x="0" y="352"/>
                    </a:lnTo>
                    <a:lnTo>
                      <a:pt x="18" y="240"/>
                    </a:lnTo>
                    <a:lnTo>
                      <a:pt x="3" y="141"/>
                    </a:lnTo>
                    <a:lnTo>
                      <a:pt x="316" y="34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849680" y="4670280"/>
                <a:ext cx="135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Internet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Vide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5" name=""/>
            <p:cNvSpPr/>
            <p:nvPr/>
          </p:nvSpPr>
          <p:spPr>
            <a:xfrm>
              <a:off x="4871880" y="4681440"/>
              <a:ext cx="1778040" cy="1015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frame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n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mquant scal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rot="10800000">
              <a:off x="4448160" y="5072040"/>
              <a:ext cx="393840" cy="380880"/>
            </a:xfrm>
            <a:prstGeom prst="rightArrow">
              <a:avLst>
                <a:gd name="adj1" fmla="val 50000"/>
                <a:gd name="adj2" fmla="val 25851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7" name="" descr=""/>
          <p:cNvPicPr/>
          <p:nvPr/>
        </p:nvPicPr>
        <p:blipFill>
          <a:blip r:embed="rId1"/>
          <a:stretch/>
        </p:blipFill>
        <p:spPr>
          <a:xfrm>
            <a:off x="1434960" y="2008080"/>
            <a:ext cx="5634000" cy="4378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419840" y="598320"/>
            <a:ext cx="239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58800" y="1544760"/>
            <a:ext cx="76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PEG-4 for Browsing and Internet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58800" y="2932200"/>
            <a:ext cx="74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PEG-2 to MPEG-4 Transco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58800" y="2236680"/>
            <a:ext cx="65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PEG-2 for Broadcast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655720" y="4721400"/>
            <a:ext cx="45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w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655720" y="357984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ckgrou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655720" y="4143240"/>
            <a:ext cx="53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 real-time p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5" name=""/>
          <p:cNvGrpSpPr/>
          <p:nvPr/>
        </p:nvGrpSpPr>
        <p:grpSpPr>
          <a:xfrm>
            <a:off x="895320" y="5513400"/>
            <a:ext cx="7300800" cy="561960"/>
            <a:chOff x="895320" y="5513400"/>
            <a:chExt cx="7300800" cy="561960"/>
          </a:xfrm>
        </p:grpSpPr>
        <p:sp>
          <p:nvSpPr>
            <p:cNvPr id="2566" name=""/>
            <p:cNvSpPr/>
            <p:nvPr/>
          </p:nvSpPr>
          <p:spPr>
            <a:xfrm>
              <a:off x="895320" y="5513400"/>
              <a:ext cx="1009800" cy="56196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276640" y="5586480"/>
              <a:ext cx="59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Times New Roman"/>
                </a:rPr>
                <a:t>Better picture quality and saves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1240" y="609480"/>
            <a:ext cx="186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5600" y="16002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062000" y="2362320"/>
            <a:ext cx="7281000" cy="581400"/>
            <a:chOff x="1062000" y="2362320"/>
            <a:chExt cx="7281000" cy="581400"/>
          </a:xfrm>
        </p:grpSpPr>
        <p:sp>
          <p:nvSpPr>
            <p:cNvPr id="355" name=""/>
            <p:cNvSpPr/>
            <p:nvPr/>
          </p:nvSpPr>
          <p:spPr>
            <a:xfrm>
              <a:off x="1066680" y="2389320"/>
              <a:ext cx="1825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2000" y="2362320"/>
              <a:ext cx="728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Basic Functions of Transcod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066320" y="5486400"/>
            <a:ext cx="33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4880" y="3048120"/>
            <a:ext cx="606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-frames only trans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for Brow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3800" y="419112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ong GOP trans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for Intern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"/>
          <p:cNvSpPr txBox="1"/>
          <p:nvPr/>
        </p:nvSpPr>
        <p:spPr>
          <a:xfrm>
            <a:off x="2865600" y="2847960"/>
            <a:ext cx="2651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 N 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124080" y="3581280"/>
            <a:ext cx="12193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4937040"/>
            <a:ext cx="1482840" cy="144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ws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PEG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.2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-Frames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38240" y="1676520"/>
            <a:ext cx="2535120" cy="2239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865160" y="2874960"/>
            <a:ext cx="667080" cy="39060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1568520" y="2192400"/>
            <a:ext cx="891720" cy="419040"/>
            <a:chOff x="1568520" y="2192400"/>
            <a:chExt cx="891720" cy="419040"/>
          </a:xfrm>
        </p:grpSpPr>
        <p:sp>
          <p:nvSpPr>
            <p:cNvPr id="365" name=""/>
            <p:cNvSpPr/>
            <p:nvPr/>
          </p:nvSpPr>
          <p:spPr>
            <a:xfrm>
              <a:off x="1573200" y="2197440"/>
              <a:ext cx="887040" cy="408600"/>
            </a:xfrm>
            <a:custGeom>
              <a:avLst/>
              <a:gdLst/>
              <a:ahLst/>
              <a:rect l="l" t="t" r="r" b="b"/>
              <a:pathLst>
                <a:path w="721" h="392">
                  <a:moveTo>
                    <a:pt x="0" y="391"/>
                  </a:moveTo>
                  <a:lnTo>
                    <a:pt x="720" y="391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3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45880" y="2367360"/>
              <a:ext cx="20880" cy="4680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45880" y="23392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8680" y="2348640"/>
              <a:ext cx="4644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15280" y="2486160"/>
              <a:ext cx="35640" cy="24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8" y="11"/>
                  </a:moveTo>
                  <a:lnTo>
                    <a:pt x="28" y="8"/>
                  </a:lnTo>
                  <a:lnTo>
                    <a:pt x="26" y="4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2" y="21"/>
                  </a:lnTo>
                  <a:lnTo>
                    <a:pt x="26" y="18"/>
                  </a:lnTo>
                  <a:lnTo>
                    <a:pt x="28" y="15"/>
                  </a:lnTo>
                  <a:lnTo>
                    <a:pt x="28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5676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076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704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1888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8288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2912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34"/>
                  </a:moveTo>
                  <a:lnTo>
                    <a:pt x="16" y="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5676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2076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9348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4560" y="2424600"/>
              <a:ext cx="20880" cy="37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84560" y="2375640"/>
              <a:ext cx="20880" cy="38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6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22720" y="2517480"/>
              <a:ext cx="20880" cy="37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13000" y="23086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6800" y="229104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86800" y="25048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08800" y="2339280"/>
              <a:ext cx="20880" cy="50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6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2880" y="2415240"/>
              <a:ext cx="4680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37" y="0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82880" y="2428920"/>
              <a:ext cx="4680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5880" y="2413080"/>
              <a:ext cx="20880" cy="489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6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38680" y="2361240"/>
              <a:ext cx="4644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62640" y="2253600"/>
              <a:ext cx="74880" cy="496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0" y="23"/>
                  </a:moveTo>
                  <a:lnTo>
                    <a:pt x="59" y="18"/>
                  </a:lnTo>
                  <a:lnTo>
                    <a:pt x="57" y="14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28" y="47"/>
                  </a:lnTo>
                  <a:lnTo>
                    <a:pt x="34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3"/>
                  </a:lnTo>
                  <a:lnTo>
                    <a:pt x="59" y="28"/>
                  </a:lnTo>
                  <a:lnTo>
                    <a:pt x="6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68520" y="2192400"/>
              <a:ext cx="883440" cy="417960"/>
            </a:xfrm>
            <a:custGeom>
              <a:avLst/>
              <a:gdLst/>
              <a:ahLst/>
              <a:rect l="l" t="t" r="r" b="b"/>
              <a:pathLst>
                <a:path w="718" h="401">
                  <a:moveTo>
                    <a:pt x="0" y="400"/>
                  </a:moveTo>
                  <a:lnTo>
                    <a:pt x="0" y="0"/>
                  </a:lnTo>
                  <a:lnTo>
                    <a:pt x="717" y="0"/>
                  </a:lnTo>
                  <a:lnTo>
                    <a:pt x="717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38040" y="2535120"/>
              <a:ext cx="20880" cy="4680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0" y="4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08800" y="2535120"/>
              <a:ext cx="75960" cy="248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04120" y="2530080"/>
              <a:ext cx="89640" cy="342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72" y="0"/>
                  </a:moveTo>
                  <a:lnTo>
                    <a:pt x="72" y="32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08800" y="2434320"/>
              <a:ext cx="20880" cy="28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8800" y="2389320"/>
              <a:ext cx="2088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38040" y="2437200"/>
              <a:ext cx="20880" cy="9900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6000" y="2593800"/>
              <a:ext cx="73800" cy="1764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06000" y="2581200"/>
              <a:ext cx="73800" cy="1764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668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93480" y="251136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29120" y="251136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280" y="251136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6728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9120" y="25351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93480" y="253512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7816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78160" y="241308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41440" y="241308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41440" y="23893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1440" y="236412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78160" y="236412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93480" y="243720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29120" y="243720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29120" y="241308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93480" y="241308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93480" y="238932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29120" y="23893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29120" y="236412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solidFill>
              <a:srgbClr val="00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3480" y="2364120"/>
              <a:ext cx="3708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solidFill>
              <a:srgbClr val="00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7816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22413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3280" y="22413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29120" y="22413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93480" y="2241360"/>
              <a:ext cx="3708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644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080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2640" y="25351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55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88840" y="25351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17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68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79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4232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0668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44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080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62640" y="24861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55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8840" y="24861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17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1468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79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4232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0668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3644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0080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62640" y="243720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255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88840" y="243720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468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517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79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79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232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0668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3644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080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2640" y="23893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255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88840" y="23893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517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1468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779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232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668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644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080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62640" y="233928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55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88840" y="233928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17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1468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779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232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668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88840" y="229104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5176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1468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7796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42320" y="229104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6680" y="229104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88840" y="226620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176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1468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796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42320" y="226620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6680" y="226620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8840" y="22413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5176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796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4232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386800" y="250488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2386440" y="229104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22720" y="251748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68520" y="2210760"/>
              <a:ext cx="88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22720" y="2284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96520" y="2284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96520" y="2504880"/>
              <a:ext cx="0" cy="5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581200" y="2190600"/>
            <a:ext cx="583920" cy="363600"/>
            <a:chOff x="2581200" y="2190600"/>
            <a:chExt cx="583920" cy="363600"/>
          </a:xfrm>
        </p:grpSpPr>
        <p:sp>
          <p:nvSpPr>
            <p:cNvPr id="502" name=""/>
            <p:cNvSpPr/>
            <p:nvPr/>
          </p:nvSpPr>
          <p:spPr>
            <a:xfrm>
              <a:off x="2592000" y="2190600"/>
              <a:ext cx="573120" cy="36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12240" y="2312640"/>
              <a:ext cx="236160" cy="3924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51360" y="2300400"/>
              <a:ext cx="65880" cy="5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1528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631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15280" y="2433960"/>
              <a:ext cx="612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9400" y="24476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15200" y="2447640"/>
              <a:ext cx="1440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85680" y="2403000"/>
              <a:ext cx="1188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15200" y="2424600"/>
              <a:ext cx="1440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85680" y="242352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49400" y="240300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16280" y="2403000"/>
              <a:ext cx="144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49400" y="24246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85680" y="24476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41320" y="2406960"/>
              <a:ext cx="1188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805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80560" y="24372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38800" y="24372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4460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17160" y="244548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12560" y="240804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819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1480" y="2385360"/>
              <a:ext cx="144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12560" y="243072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38800" y="23004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38800" y="232308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38800" y="23468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63880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81200" y="2280600"/>
              <a:ext cx="572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583360" y="2466000"/>
              <a:ext cx="5781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226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58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061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475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882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85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702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116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534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941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344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58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176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449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866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70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684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101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494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922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325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43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150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574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978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70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031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04040" y="2217600"/>
              <a:ext cx="160200" cy="4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17920" y="2228760"/>
              <a:ext cx="52524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0656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7452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74500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1224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3364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0196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72800" y="2368800"/>
              <a:ext cx="1188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40760" y="2368800"/>
              <a:ext cx="108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 flipV="1">
            <a:off x="2055960" y="2606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57360" y="2558880"/>
            <a:ext cx="501840" cy="333720"/>
          </a:xfrm>
          <a:custGeom>
            <a:avLst/>
            <a:gdLst/>
            <a:ahLst/>
            <a:rect l="l" t="t" r="r" b="b"/>
            <a:pathLst>
              <a:path w="410" h="319">
                <a:moveTo>
                  <a:pt x="0" y="318"/>
                </a:moveTo>
                <a:lnTo>
                  <a:pt x="0" y="209"/>
                </a:lnTo>
                <a:lnTo>
                  <a:pt x="409" y="209"/>
                </a:lnTo>
                <a:lnTo>
                  <a:pt x="4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968480" y="26528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82880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st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981080" y="4952880"/>
            <a:ext cx="554040" cy="3938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990720" y="4950000"/>
            <a:ext cx="525240" cy="3934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219320" y="4800600"/>
            <a:ext cx="100332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22640" y="4651200"/>
            <a:ext cx="0" cy="2988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4800600"/>
            <a:ext cx="0" cy="149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3429000" y="3809880"/>
            <a:ext cx="666720" cy="3906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275640" y="4267080"/>
            <a:ext cx="9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38360" y="3657600"/>
            <a:ext cx="201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3657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595600" y="2924280"/>
            <a:ext cx="496800" cy="3934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2395080" y="3301920"/>
            <a:ext cx="90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133720" y="4267080"/>
            <a:ext cx="237600" cy="479520"/>
            <a:chOff x="2133720" y="4267080"/>
            <a:chExt cx="237600" cy="479520"/>
          </a:xfrm>
        </p:grpSpPr>
        <p:grpSp>
          <p:nvGrpSpPr>
            <p:cNvPr id="588" name=""/>
            <p:cNvGrpSpPr/>
            <p:nvPr/>
          </p:nvGrpSpPr>
          <p:grpSpPr>
            <a:xfrm>
              <a:off x="2133720" y="4267080"/>
              <a:ext cx="237600" cy="479520"/>
              <a:chOff x="2133720" y="4267080"/>
              <a:chExt cx="237600" cy="479520"/>
            </a:xfrm>
          </p:grpSpPr>
          <p:sp>
            <p:nvSpPr>
              <p:cNvPr id="589" name=""/>
              <p:cNvSpPr/>
              <p:nvPr/>
            </p:nvSpPr>
            <p:spPr>
              <a:xfrm>
                <a:off x="2134800" y="4323240"/>
                <a:ext cx="217440" cy="420120"/>
              </a:xfrm>
              <a:custGeom>
                <a:avLst/>
                <a:gdLst/>
                <a:ahLst/>
                <a:rect l="l" t="t" r="r" b="b"/>
                <a:pathLst>
                  <a:path w="179" h="403">
                    <a:moveTo>
                      <a:pt x="178" y="0"/>
                    </a:moveTo>
                    <a:lnTo>
                      <a:pt x="0" y="0"/>
                    </a:lnTo>
                    <a:lnTo>
                      <a:pt x="0" y="402"/>
                    </a:lnTo>
                    <a:lnTo>
                      <a:pt x="178" y="402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50800" y="4267080"/>
                <a:ext cx="20520" cy="479520"/>
              </a:xfrm>
              <a:custGeom>
                <a:avLst/>
                <a:gdLst/>
                <a:ahLst/>
                <a:rect l="l" t="t" r="r" b="b"/>
                <a:pathLst>
                  <a:path w="17" h="460">
                    <a:moveTo>
                      <a:pt x="16" y="26"/>
                    </a:moveTo>
                    <a:lnTo>
                      <a:pt x="15" y="396"/>
                    </a:lnTo>
                    <a:lnTo>
                      <a:pt x="0" y="459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6" y="26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34800" y="4708080"/>
                <a:ext cx="21492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133720" y="4381560"/>
                <a:ext cx="21456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50000" y="4350240"/>
                <a:ext cx="20520" cy="324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30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6" y="3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134800" y="4269960"/>
                <a:ext cx="235800" cy="54000"/>
              </a:xfrm>
              <a:custGeom>
                <a:avLst/>
                <a:gdLst/>
                <a:ahLst/>
                <a:rect l="l" t="t" r="r" b="b"/>
                <a:pathLst>
                  <a:path w="194" h="52">
                    <a:moveTo>
                      <a:pt x="0" y="51"/>
                    </a:moveTo>
                    <a:lnTo>
                      <a:pt x="29" y="0"/>
                    </a:lnTo>
                    <a:lnTo>
                      <a:pt x="193" y="0"/>
                    </a:lnTo>
                    <a:lnTo>
                      <a:pt x="177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2139480" y="4327200"/>
                <a:ext cx="206280" cy="30960"/>
                <a:chOff x="2139480" y="4327200"/>
                <a:chExt cx="206280" cy="30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2139480" y="4327200"/>
                  <a:ext cx="20628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2142720" y="4327200"/>
                  <a:ext cx="198720" cy="30960"/>
                  <a:chOff x="2142720" y="4327200"/>
                  <a:chExt cx="198720" cy="309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2142720" y="4327200"/>
                    <a:ext cx="198720" cy="22680"/>
                  </a:xfrm>
                  <a:prstGeom prst="rect">
                    <a:avLst/>
                  </a:prstGeom>
                  <a:solidFill>
                    <a:srgbClr val="9f9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147400" y="4332240"/>
                    <a:ext cx="9360" cy="828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147400" y="4349880"/>
                    <a:ext cx="9360" cy="828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1" name=""/>
              <p:cNvSpPr/>
              <p:nvPr/>
            </p:nvSpPr>
            <p:spPr>
              <a:xfrm>
                <a:off x="2134800" y="4681800"/>
                <a:ext cx="21492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154240" y="4428360"/>
              <a:ext cx="158400" cy="235800"/>
              <a:chOff x="2154240" y="4428360"/>
              <a:chExt cx="158400" cy="235800"/>
            </a:xfrm>
          </p:grpSpPr>
          <p:sp>
            <p:nvSpPr>
              <p:cNvPr id="603" name=""/>
              <p:cNvSpPr/>
              <p:nvPr/>
            </p:nvSpPr>
            <p:spPr>
              <a:xfrm>
                <a:off x="2175840" y="460044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40280" y="462348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166120" y="45954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201040" y="4629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2157120" y="45972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201040" y="46234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201400" y="46234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210040" y="46234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2196000" y="4625280"/>
                <a:ext cx="8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2196360" y="46231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2158920" y="4599360"/>
                <a:ext cx="4104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15712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58920" y="459612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60000" y="4595400"/>
                <a:ext cx="49680" cy="2880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0"/>
                    </a:moveTo>
                    <a:lnTo>
                      <a:pt x="5" y="0"/>
                    </a:lnTo>
                    <a:lnTo>
                      <a:pt x="40" y="27"/>
                    </a:lnTo>
                    <a:lnTo>
                      <a:pt x="32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201400" y="46234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58920" y="459828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201400" y="46234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2158920" y="459720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75840" y="4573080"/>
                <a:ext cx="136800" cy="45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240280" y="45961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66120" y="456804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2201040" y="460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2157120" y="456912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20104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201400" y="459540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210040" y="459540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2196000" y="4599000"/>
                <a:ext cx="8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2196360" y="459504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2158920" y="457272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157120" y="456804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58920" y="456912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60000" y="456804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01400" y="45954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58920" y="457020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0140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2158920" y="456912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75840" y="454500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240280" y="45691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66120" y="453996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2201040" y="45730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2157120" y="454032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2201040" y="4566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201400" y="456660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210040" y="456660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2196000" y="4572360"/>
                <a:ext cx="82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2196360" y="4566600"/>
                <a:ext cx="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2158920" y="454464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2157120" y="4539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158920" y="454068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60000" y="453996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01400" y="45669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58920" y="4542840"/>
                <a:ext cx="43560" cy="309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0" y="2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5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01400" y="4566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2158920" y="454032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175840" y="4516920"/>
                <a:ext cx="136800" cy="44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240280" y="453996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66120" y="451188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201040" y="45460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2157120" y="45126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2201040" y="45388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2201400" y="45388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2210040" y="45388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2196000" y="4543920"/>
                <a:ext cx="82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2196360" y="4538520"/>
                <a:ext cx="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2158920" y="4516920"/>
                <a:ext cx="41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215712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58920" y="4512600"/>
                <a:ext cx="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60000" y="451188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01400" y="45388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58920" y="4514760"/>
                <a:ext cx="43560" cy="302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0" y="0"/>
                    </a:moveTo>
                    <a:lnTo>
                      <a:pt x="0" y="2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5" y="28"/>
                    </a:lnTo>
                    <a:lnTo>
                      <a:pt x="35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201400" y="45388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2158920" y="451260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175840" y="4489560"/>
                <a:ext cx="136800" cy="44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240280" y="451368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66120" y="448560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2199600" y="451908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2157120" y="448668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220104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2199960" y="4512600"/>
                <a:ext cx="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2208600" y="4512600"/>
                <a:ext cx="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2194920" y="4516920"/>
                <a:ext cx="82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2195280" y="4512600"/>
                <a:ext cx="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2157480" y="448920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215712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158920" y="448560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160000" y="448560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201400" y="45126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158920" y="448884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0"/>
                    </a:moveTo>
                    <a:lnTo>
                      <a:pt x="0" y="2"/>
                    </a:lnTo>
                    <a:lnTo>
                      <a:pt x="30" y="22"/>
                    </a:lnTo>
                    <a:lnTo>
                      <a:pt x="30" y="26"/>
                    </a:lnTo>
                    <a:lnTo>
                      <a:pt x="34" y="28"/>
                    </a:lnTo>
                    <a:lnTo>
                      <a:pt x="34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0140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2158920" y="448668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175840" y="4461480"/>
                <a:ext cx="136800" cy="45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240280" y="44845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66120" y="4456440"/>
                <a:ext cx="471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2201040" y="44917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2157120" y="4458600"/>
                <a:ext cx="471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20104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2201400" y="44852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2210040" y="44852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2196000" y="4488480"/>
                <a:ext cx="82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196360" y="448524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2158920" y="4462560"/>
                <a:ext cx="4104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15712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158920" y="44575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60000" y="4457520"/>
                <a:ext cx="49680" cy="2880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0"/>
                    </a:moveTo>
                    <a:lnTo>
                      <a:pt x="5" y="0"/>
                    </a:lnTo>
                    <a:lnTo>
                      <a:pt x="40" y="27"/>
                    </a:lnTo>
                    <a:lnTo>
                      <a:pt x="32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01400" y="44856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158920" y="445932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0140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2158920" y="445896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175840" y="443448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240280" y="44593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66120" y="443016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2199600" y="44636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2157120" y="443088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220104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2199960" y="445752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2208600" y="445752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2194920" y="4462560"/>
                <a:ext cx="8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2195280" y="44571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2157480" y="443520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157120" y="44301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58920" y="44301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160000" y="443016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01400" y="44575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158920" y="4432320"/>
                <a:ext cx="42480" cy="3204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0" y="2"/>
                    </a:lnTo>
                    <a:lnTo>
                      <a:pt x="30" y="24"/>
                    </a:lnTo>
                    <a:lnTo>
                      <a:pt x="30" y="27"/>
                    </a:lnTo>
                    <a:lnTo>
                      <a:pt x="34" y="30"/>
                    </a:lnTo>
                    <a:lnTo>
                      <a:pt x="34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40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2158920" y="443088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166120" y="44427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166120" y="4469040"/>
                <a:ext cx="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66120" y="449712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166120" y="45241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166120" y="45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166120" y="458064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166120" y="460656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157480" y="443772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57480" y="446364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57480" y="449172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157480" y="451800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157480" y="454716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57480" y="457416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157480" y="46026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54240" y="4428360"/>
                <a:ext cx="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54240" y="4618080"/>
                <a:ext cx="6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57480" y="46213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54240" y="4428360"/>
                <a:ext cx="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54240" y="4428360"/>
                <a:ext cx="8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58920" y="4437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" y="0"/>
                    </a:moveTo>
                    <a:lnTo>
                      <a:pt x="16" y="4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58920" y="446364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" y="0"/>
                    </a:moveTo>
                    <a:lnTo>
                      <a:pt x="16" y="4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58920" y="4491000"/>
                <a:ext cx="20520" cy="216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" y="0"/>
                    </a:moveTo>
                    <a:lnTo>
                      <a:pt x="16" y="4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58920" y="45180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" y="0"/>
                    </a:moveTo>
                    <a:lnTo>
                      <a:pt x="16" y="4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58920" y="45471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" y="0"/>
                    </a:moveTo>
                    <a:lnTo>
                      <a:pt x="16" y="3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157480" y="4601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0"/>
                    </a:moveTo>
                    <a:lnTo>
                      <a:pt x="16" y="4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157480" y="45730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16" y="4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154240" y="4430160"/>
                <a:ext cx="20520" cy="189720"/>
              </a:xfrm>
              <a:custGeom>
                <a:avLst/>
                <a:gdLst/>
                <a:ahLst/>
                <a:rect l="l" t="t" r="r" b="b"/>
                <a:pathLst>
                  <a:path w="17" h="182">
                    <a:moveTo>
                      <a:pt x="0" y="0"/>
                    </a:moveTo>
                    <a:lnTo>
                      <a:pt x="16" y="2"/>
                    </a:lnTo>
                    <a:lnTo>
                      <a:pt x="13" y="181"/>
                    </a:lnTo>
                    <a:lnTo>
                      <a:pt x="0" y="1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54240" y="4428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2157120" y="46641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990360" y="5410080"/>
            <a:ext cx="17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row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00200" y="3994200"/>
            <a:ext cx="1447920" cy="30492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66920" y="533520"/>
            <a:ext cx="5807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PEG Television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8880" y="329076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210960" y="3076560"/>
            <a:ext cx="2141640" cy="1616040"/>
            <a:chOff x="210960" y="3076560"/>
            <a:chExt cx="2141640" cy="1616040"/>
          </a:xfrm>
        </p:grpSpPr>
        <p:sp>
          <p:nvSpPr>
            <p:cNvPr id="763" name=""/>
            <p:cNvSpPr/>
            <p:nvPr/>
          </p:nvSpPr>
          <p:spPr>
            <a:xfrm>
              <a:off x="210960" y="3325680"/>
              <a:ext cx="851040" cy="62568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156240 h 625680"/>
                <a:gd name="textAreaBottom" fmla="*/ 469440 h 6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Vide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1054080" y="3076560"/>
              <a:ext cx="952560" cy="5349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68480" y="3654360"/>
              <a:ext cx="1284120" cy="103824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7600" y="3849840"/>
              <a:ext cx="706680" cy="342720"/>
            </a:xfrm>
            <a:prstGeom prst="rect">
              <a:avLst/>
            </a:prstGeom>
            <a:solidFill>
              <a:srgbClr val="ffd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96840" y="3137040"/>
              <a:ext cx="706680" cy="342720"/>
            </a:xfrm>
            <a:prstGeom prst="rect">
              <a:avLst/>
            </a:prstGeom>
            <a:solidFill>
              <a:srgbClr val="ffd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0" y="1282680"/>
            <a:ext cx="1531800" cy="1321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PEG-2 / 4: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-Frames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124080" y="3581280"/>
            <a:ext cx="12193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38240" y="1676520"/>
            <a:ext cx="2535120" cy="2239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865160" y="2874960"/>
            <a:ext cx="667080" cy="390600"/>
          </a:xfrm>
          <a:prstGeom prst="rect">
            <a:avLst/>
          </a:prstGeom>
          <a:ln w="0">
            <a:noFill/>
          </a:ln>
        </p:spPr>
      </p:pic>
      <p:grpSp>
        <p:nvGrpSpPr>
          <p:cNvPr id="772" name=""/>
          <p:cNvGrpSpPr/>
          <p:nvPr/>
        </p:nvGrpSpPr>
        <p:grpSpPr>
          <a:xfrm>
            <a:off x="1568520" y="2192400"/>
            <a:ext cx="891720" cy="419040"/>
            <a:chOff x="1568520" y="2192400"/>
            <a:chExt cx="891720" cy="419040"/>
          </a:xfrm>
        </p:grpSpPr>
        <p:sp>
          <p:nvSpPr>
            <p:cNvPr id="773" name=""/>
            <p:cNvSpPr/>
            <p:nvPr/>
          </p:nvSpPr>
          <p:spPr>
            <a:xfrm>
              <a:off x="1573200" y="2197440"/>
              <a:ext cx="887040" cy="408600"/>
            </a:xfrm>
            <a:custGeom>
              <a:avLst/>
              <a:gdLst/>
              <a:ahLst/>
              <a:rect l="l" t="t" r="r" b="b"/>
              <a:pathLst>
                <a:path w="721" h="392">
                  <a:moveTo>
                    <a:pt x="0" y="391"/>
                  </a:moveTo>
                  <a:lnTo>
                    <a:pt x="720" y="391"/>
                  </a:lnTo>
                  <a:lnTo>
                    <a:pt x="720" y="0"/>
                  </a:lnTo>
                  <a:lnTo>
                    <a:pt x="0" y="0"/>
                  </a:lnTo>
                  <a:lnTo>
                    <a:pt x="0" y="3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45880" y="2367360"/>
              <a:ext cx="20880" cy="4680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6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45880" y="23392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38680" y="2348640"/>
              <a:ext cx="4644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15280" y="2486160"/>
              <a:ext cx="35640" cy="248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8" y="11"/>
                  </a:moveTo>
                  <a:lnTo>
                    <a:pt x="28" y="8"/>
                  </a:lnTo>
                  <a:lnTo>
                    <a:pt x="26" y="4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2" y="21"/>
                  </a:lnTo>
                  <a:lnTo>
                    <a:pt x="26" y="18"/>
                  </a:lnTo>
                  <a:lnTo>
                    <a:pt x="28" y="15"/>
                  </a:lnTo>
                  <a:lnTo>
                    <a:pt x="28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5676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2076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5704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1888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5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5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82880" y="22474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4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6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2912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34"/>
                  </a:moveTo>
                  <a:lnTo>
                    <a:pt x="16" y="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5676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2076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93480" y="2291040"/>
              <a:ext cx="20880" cy="36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6" y="34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84560" y="2424600"/>
              <a:ext cx="20880" cy="37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84560" y="2375640"/>
              <a:ext cx="20880" cy="38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6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22720" y="2517480"/>
              <a:ext cx="20880" cy="37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13000" y="23086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6800" y="229104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86800" y="2504880"/>
              <a:ext cx="20880" cy="17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08800" y="2339280"/>
              <a:ext cx="20880" cy="5076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6" y="0"/>
                  </a:moveTo>
                  <a:lnTo>
                    <a:pt x="0" y="0"/>
                  </a:lnTo>
                  <a:lnTo>
                    <a:pt x="0" y="48"/>
                  </a:lnTo>
                  <a:lnTo>
                    <a:pt x="16" y="4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82880" y="2415240"/>
              <a:ext cx="4680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37" y="0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2880" y="2428920"/>
              <a:ext cx="4680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45880" y="2413080"/>
              <a:ext cx="20880" cy="489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6" y="46"/>
                  </a:moveTo>
                  <a:lnTo>
                    <a:pt x="0" y="4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38680" y="2361240"/>
              <a:ext cx="46440" cy="1764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62640" y="2253600"/>
              <a:ext cx="74880" cy="496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0" y="23"/>
                  </a:moveTo>
                  <a:lnTo>
                    <a:pt x="59" y="18"/>
                  </a:lnTo>
                  <a:lnTo>
                    <a:pt x="57" y="14"/>
                  </a:lnTo>
                  <a:lnTo>
                    <a:pt x="54" y="9"/>
                  </a:lnTo>
                  <a:lnTo>
                    <a:pt x="50" y="6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5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16" y="44"/>
                  </a:lnTo>
                  <a:lnTo>
                    <a:pt x="22" y="46"/>
                  </a:lnTo>
                  <a:lnTo>
                    <a:pt x="28" y="47"/>
                  </a:lnTo>
                  <a:lnTo>
                    <a:pt x="34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3"/>
                  </a:lnTo>
                  <a:lnTo>
                    <a:pt x="59" y="28"/>
                  </a:lnTo>
                  <a:lnTo>
                    <a:pt x="60" y="2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68520" y="2192400"/>
              <a:ext cx="883440" cy="417960"/>
            </a:xfrm>
            <a:custGeom>
              <a:avLst/>
              <a:gdLst/>
              <a:ahLst/>
              <a:rect l="l" t="t" r="r" b="b"/>
              <a:pathLst>
                <a:path w="718" h="401">
                  <a:moveTo>
                    <a:pt x="0" y="400"/>
                  </a:moveTo>
                  <a:lnTo>
                    <a:pt x="0" y="0"/>
                  </a:lnTo>
                  <a:lnTo>
                    <a:pt x="717" y="0"/>
                  </a:lnTo>
                  <a:lnTo>
                    <a:pt x="717" y="400"/>
                  </a:lnTo>
                  <a:lnTo>
                    <a:pt x="0" y="4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38040" y="2535120"/>
              <a:ext cx="20880" cy="4680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0" y="4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08800" y="2535120"/>
              <a:ext cx="75960" cy="248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04120" y="2530080"/>
              <a:ext cx="89640" cy="342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72" y="0"/>
                  </a:moveTo>
                  <a:lnTo>
                    <a:pt x="72" y="32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08800" y="2434320"/>
              <a:ext cx="20880" cy="280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08800" y="2389320"/>
              <a:ext cx="20880" cy="27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38040" y="2437200"/>
              <a:ext cx="20880" cy="9900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06000" y="2593800"/>
              <a:ext cx="73800" cy="1764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06000" y="2581200"/>
              <a:ext cx="73800" cy="1764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59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59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0668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93480" y="251136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29120" y="251136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67280" y="251136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6728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29120" y="25351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93480" y="253512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7816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78160" y="241308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41440" y="241308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41440" y="23893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41440" y="236412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78160" y="236412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93480" y="243720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9120" y="243720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29120" y="241308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93480" y="241308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93480" y="2389320"/>
              <a:ext cx="3708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29120" y="23893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29120" y="236412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solidFill>
              <a:srgbClr val="00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93480" y="2364120"/>
              <a:ext cx="3708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solidFill>
              <a:srgbClr val="00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7816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41440" y="22413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03280" y="22413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29120" y="22413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193480" y="2241360"/>
              <a:ext cx="3708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3644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90080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62640" y="25351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255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88840" y="25351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17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1468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77960" y="25351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4232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06680" y="25351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3644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90080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62640" y="248616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255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88840" y="24861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17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1468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7960" y="24861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4232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06680" y="24861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3644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0080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62640" y="243720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255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88840" y="243720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1468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517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779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77960" y="243720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4232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606680" y="243720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3644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0080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862640" y="2389320"/>
              <a:ext cx="39240" cy="248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255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88840" y="238932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517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1468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77960" y="238932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4232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06680" y="238932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3644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0080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62640" y="2339280"/>
              <a:ext cx="39240" cy="25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55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88840" y="233928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517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71468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77960" y="233928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232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06680" y="233928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88840" y="2291040"/>
              <a:ext cx="3780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5176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1468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7960" y="2291040"/>
              <a:ext cx="38160" cy="24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42320" y="229104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06680" y="2291040"/>
              <a:ext cx="36720" cy="248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88840" y="226620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176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1468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77960" y="226620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42320" y="226620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06680" y="226620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88840" y="2241360"/>
              <a:ext cx="3780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5176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1468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77960" y="2241360"/>
              <a:ext cx="38160" cy="25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42320" y="2241360"/>
              <a:ext cx="36720" cy="259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86800" y="250488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386440" y="2291040"/>
              <a:ext cx="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22720" y="251748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68520" y="2210760"/>
              <a:ext cx="88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22720" y="2284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96520" y="228492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6520" y="2504880"/>
              <a:ext cx="0" cy="5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581200" y="2190600"/>
            <a:ext cx="583920" cy="363600"/>
            <a:chOff x="2581200" y="2190600"/>
            <a:chExt cx="583920" cy="363600"/>
          </a:xfrm>
        </p:grpSpPr>
        <p:sp>
          <p:nvSpPr>
            <p:cNvPr id="910" name=""/>
            <p:cNvSpPr/>
            <p:nvPr/>
          </p:nvSpPr>
          <p:spPr>
            <a:xfrm>
              <a:off x="2592000" y="2190600"/>
              <a:ext cx="573120" cy="36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12240" y="2312640"/>
              <a:ext cx="236160" cy="3924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51360" y="2300400"/>
              <a:ext cx="65880" cy="5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1528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9631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15280" y="2433960"/>
              <a:ext cx="612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49400" y="24476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15200" y="2447640"/>
              <a:ext cx="1440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5680" y="2403000"/>
              <a:ext cx="1188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15200" y="2424600"/>
              <a:ext cx="1440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85680" y="242352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49400" y="240300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16280" y="2403000"/>
              <a:ext cx="144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49400" y="24246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85680" y="24476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41320" y="2406960"/>
              <a:ext cx="1188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805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80560" y="24372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38800" y="24372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14460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17160" y="2445480"/>
              <a:ext cx="1332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112560" y="240804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81960" y="240696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11480" y="2385360"/>
              <a:ext cx="14400" cy="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2560" y="243072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38800" y="230040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638800" y="2323080"/>
              <a:ext cx="13320" cy="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38800" y="2346840"/>
              <a:ext cx="13320" cy="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3880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81200" y="2280600"/>
              <a:ext cx="5720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583360" y="2466000"/>
              <a:ext cx="5781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226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658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61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475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882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285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702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116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534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941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344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0758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1176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449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866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270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684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101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494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922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325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97432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0150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5748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9780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3704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03160" y="24753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04040" y="2217600"/>
              <a:ext cx="160200" cy="4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7920" y="2228760"/>
              <a:ext cx="52524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0656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7452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74500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71224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33640" y="2368800"/>
              <a:ext cx="144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01960" y="2368800"/>
              <a:ext cx="1332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872800" y="2368800"/>
              <a:ext cx="1188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40760" y="2368800"/>
              <a:ext cx="10800" cy="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2055960" y="2606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57360" y="2558880"/>
            <a:ext cx="501840" cy="333720"/>
          </a:xfrm>
          <a:custGeom>
            <a:avLst/>
            <a:gdLst/>
            <a:ahLst/>
            <a:rect l="l" t="t" r="r" b="b"/>
            <a:pathLst>
              <a:path w="410" h="319">
                <a:moveTo>
                  <a:pt x="0" y="318"/>
                </a:moveTo>
                <a:lnTo>
                  <a:pt x="0" y="209"/>
                </a:lnTo>
                <a:lnTo>
                  <a:pt x="409" y="209"/>
                </a:lnTo>
                <a:lnTo>
                  <a:pt x="40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968480" y="26528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47920" y="1828800"/>
            <a:ext cx="168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ost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99160" y="2206800"/>
            <a:ext cx="6109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92520" y="2379600"/>
            <a:ext cx="95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6680" y="1981080"/>
            <a:ext cx="1652760" cy="151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38640" y="2784600"/>
            <a:ext cx="708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38640" y="2743200"/>
            <a:ext cx="682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024600" y="3119400"/>
            <a:ext cx="1116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7543800" y="2209680"/>
            <a:ext cx="608760" cy="919800"/>
            <a:chOff x="7543800" y="2209680"/>
            <a:chExt cx="608760" cy="919800"/>
          </a:xfrm>
        </p:grpSpPr>
        <p:sp>
          <p:nvSpPr>
            <p:cNvPr id="989" name=""/>
            <p:cNvSpPr/>
            <p:nvPr/>
          </p:nvSpPr>
          <p:spPr>
            <a:xfrm>
              <a:off x="7763400" y="2766600"/>
              <a:ext cx="23760" cy="106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63400" y="2766600"/>
              <a:ext cx="360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665840" y="2680560"/>
              <a:ext cx="72360" cy="192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908840" y="2723400"/>
              <a:ext cx="48600" cy="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836120" y="2658960"/>
              <a:ext cx="23760" cy="21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763400" y="2894400"/>
              <a:ext cx="145080" cy="396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65840" y="2423160"/>
              <a:ext cx="48600" cy="85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0"/>
                  </a:moveTo>
                  <a:lnTo>
                    <a:pt x="0" y="18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41000" y="2230560"/>
              <a:ext cx="97200" cy="642600"/>
            </a:xfrm>
            <a:custGeom>
              <a:avLst/>
              <a:gdLst/>
              <a:ahLst/>
              <a:rect l="l" t="t" r="r" b="b"/>
              <a:pathLst>
                <a:path w="24" h="180">
                  <a:moveTo>
                    <a:pt x="24" y="0"/>
                  </a:moveTo>
                  <a:lnTo>
                    <a:pt x="0" y="12"/>
                  </a:lnTo>
                  <a:lnTo>
                    <a:pt x="0" y="180"/>
                  </a:lnTo>
                  <a:lnTo>
                    <a:pt x="6" y="180"/>
                  </a:lnTo>
                  <a:lnTo>
                    <a:pt x="6" y="30"/>
                  </a:lnTo>
                  <a:lnTo>
                    <a:pt x="24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f9f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41000" y="2873160"/>
              <a:ext cx="511200" cy="128520"/>
            </a:xfrm>
            <a:custGeom>
              <a:avLst/>
              <a:gdLst/>
              <a:ahLst/>
              <a:rect l="l" t="t" r="r" b="b"/>
              <a:pathLst>
                <a:path w="126" h="36">
                  <a:moveTo>
                    <a:pt x="0" y="3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114" y="12"/>
                  </a:lnTo>
                  <a:lnTo>
                    <a:pt x="114" y="24"/>
                  </a:lnTo>
                  <a:lnTo>
                    <a:pt x="126" y="24"/>
                  </a:lnTo>
                  <a:lnTo>
                    <a:pt x="126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41000" y="2959200"/>
              <a:ext cx="389880" cy="42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41000" y="2680560"/>
              <a:ext cx="43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17240" y="2766600"/>
              <a:ext cx="237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811280" y="2723400"/>
              <a:ext cx="97200" cy="17064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0" y="0"/>
                  </a:moveTo>
                  <a:lnTo>
                    <a:pt x="24" y="48"/>
                  </a:lnTo>
                  <a:lnTo>
                    <a:pt x="24" y="4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68280" y="2830320"/>
              <a:ext cx="72360" cy="1713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2" y="0"/>
                  </a:moveTo>
                  <a:lnTo>
                    <a:pt x="0" y="18"/>
                  </a:lnTo>
                  <a:lnTo>
                    <a:pt x="0" y="48"/>
                  </a:lnTo>
                  <a:lnTo>
                    <a:pt x="18" y="48"/>
                  </a:lnTo>
                  <a:lnTo>
                    <a:pt x="18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543800" y="3087720"/>
              <a:ext cx="608760" cy="4176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43800" y="3044880"/>
              <a:ext cx="608760" cy="4284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543800" y="3002040"/>
              <a:ext cx="608760" cy="4284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79120" y="2980080"/>
              <a:ext cx="73440" cy="21600"/>
            </a:xfrm>
            <a:prstGeom prst="rect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617240" y="2787480"/>
              <a:ext cx="3600" cy="42840"/>
            </a:xfrm>
            <a:prstGeom prst="ellipse">
              <a:avLst/>
            </a:prstGeom>
            <a:solidFill>
              <a:srgbClr val="9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63400" y="2701800"/>
              <a:ext cx="47520" cy="42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38560" y="2680560"/>
              <a:ext cx="169920" cy="1926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6" y="54"/>
                  </a:moveTo>
                  <a:lnTo>
                    <a:pt x="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17240" y="2487960"/>
              <a:ext cx="146160" cy="192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92400" y="2487960"/>
              <a:ext cx="171000" cy="192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65840" y="2873160"/>
              <a:ext cx="72360" cy="171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65840" y="2916360"/>
              <a:ext cx="72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65840" y="2980080"/>
              <a:ext cx="723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65840" y="2959200"/>
              <a:ext cx="72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65840" y="2937240"/>
              <a:ext cx="723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65840" y="2894400"/>
              <a:ext cx="723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65840" y="3002040"/>
              <a:ext cx="72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65840" y="3022920"/>
              <a:ext cx="7236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103960" y="2916360"/>
              <a:ext cx="23760" cy="42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82280" y="2445120"/>
              <a:ext cx="48600" cy="85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908840" y="2402280"/>
              <a:ext cx="97200" cy="208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24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89960" y="2209680"/>
              <a:ext cx="365040" cy="577800"/>
            </a:xfrm>
            <a:custGeom>
              <a:avLst/>
              <a:gdLst/>
              <a:ahLst/>
              <a:rect l="l" t="t" r="r" b="b"/>
              <a:pathLst>
                <a:path w="90" h="162">
                  <a:moveTo>
                    <a:pt x="0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72"/>
                  </a:lnTo>
                  <a:lnTo>
                    <a:pt x="12" y="84"/>
                  </a:lnTo>
                  <a:lnTo>
                    <a:pt x="18" y="102"/>
                  </a:lnTo>
                  <a:lnTo>
                    <a:pt x="30" y="114"/>
                  </a:lnTo>
                  <a:lnTo>
                    <a:pt x="36" y="126"/>
                  </a:lnTo>
                  <a:lnTo>
                    <a:pt x="48" y="132"/>
                  </a:lnTo>
                  <a:lnTo>
                    <a:pt x="54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90" y="162"/>
                  </a:lnTo>
                  <a:lnTo>
                    <a:pt x="90" y="162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14800" y="2209680"/>
              <a:ext cx="340200" cy="57780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12" y="84"/>
                  </a:lnTo>
                  <a:lnTo>
                    <a:pt x="24" y="96"/>
                  </a:lnTo>
                  <a:lnTo>
                    <a:pt x="30" y="108"/>
                  </a:lnTo>
                  <a:lnTo>
                    <a:pt x="36" y="120"/>
                  </a:lnTo>
                  <a:lnTo>
                    <a:pt x="42" y="126"/>
                  </a:lnTo>
                  <a:lnTo>
                    <a:pt x="48" y="132"/>
                  </a:lnTo>
                  <a:lnTo>
                    <a:pt x="54" y="138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84" y="162"/>
                  </a:lnTo>
                  <a:lnTo>
                    <a:pt x="84" y="156"/>
                  </a:lnTo>
                  <a:lnTo>
                    <a:pt x="84" y="150"/>
                  </a:lnTo>
                  <a:lnTo>
                    <a:pt x="84" y="144"/>
                  </a:lnTo>
                  <a:lnTo>
                    <a:pt x="84" y="138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60" y="78"/>
                  </a:lnTo>
                  <a:lnTo>
                    <a:pt x="54" y="66"/>
                  </a:lnTo>
                  <a:lnTo>
                    <a:pt x="48" y="54"/>
                  </a:lnTo>
                  <a:lnTo>
                    <a:pt x="42" y="48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714800" y="2359440"/>
              <a:ext cx="340200" cy="20880"/>
            </a:xfrm>
            <a:custGeom>
              <a:avLst/>
              <a:gdLst/>
              <a:ahLst/>
              <a:rect l="l" t="t" r="r" b="b"/>
              <a:pathLst>
                <a:path w="84" h="6">
                  <a:moveTo>
                    <a:pt x="0" y="0"/>
                  </a:moveTo>
                  <a:lnTo>
                    <a:pt x="84" y="0"/>
                  </a:lnTo>
                  <a:lnTo>
                    <a:pt x="8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d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57440" y="2423160"/>
              <a:ext cx="121320" cy="300240"/>
            </a:xfrm>
            <a:custGeom>
              <a:avLst/>
              <a:gdLst/>
              <a:ahLst/>
              <a:rect l="l" t="t" r="r" b="b"/>
              <a:pathLst>
                <a:path w="30" h="84">
                  <a:moveTo>
                    <a:pt x="24" y="6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30" y="0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dfd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006400" y="2359440"/>
              <a:ext cx="97200" cy="85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8" y="0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d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055000" y="2359440"/>
              <a:ext cx="48600" cy="8568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79120" y="2359440"/>
              <a:ext cx="48600" cy="637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6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9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031240" y="2380320"/>
              <a:ext cx="23760" cy="64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031240" y="2380320"/>
              <a:ext cx="23760" cy="64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6540480" y="2978280"/>
            <a:ext cx="4096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784280" y="32004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829280" y="3438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96080" y="3657600"/>
            <a:ext cx="12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oad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5048280" y="2727360"/>
            <a:ext cx="669960" cy="3888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48320" y="3276720"/>
            <a:ext cx="1473120" cy="1321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PEG-2 MP@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..15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29000" y="2590920"/>
            <a:ext cx="1571760" cy="625320"/>
          </a:xfrm>
          <a:custGeom>
            <a:avLst/>
            <a:gdLst>
              <a:gd name="textAreaLeft" fmla="*/ 245520 w 1571760"/>
              <a:gd name="textAreaRight" fmla="*/ 1375560 w 1571760"/>
              <a:gd name="textAreaTop" fmla="*/ 156240 h 625320"/>
              <a:gd name="textAreaBottom" fmla="*/ 469080 h 625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554040" cy="39384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990720" y="4950000"/>
            <a:ext cx="525240" cy="39348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1219320" y="4800600"/>
            <a:ext cx="100332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22640" y="4651200"/>
            <a:ext cx="0" cy="2988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19320" y="4800600"/>
            <a:ext cx="0" cy="1494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62280" y="274320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ile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5"/>
          <a:stretch/>
        </p:blipFill>
        <p:spPr>
          <a:xfrm>
            <a:off x="3429000" y="3809880"/>
            <a:ext cx="666720" cy="39060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3275640" y="4267080"/>
            <a:ext cx="9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13372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638360" y="3657600"/>
            <a:ext cx="201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57600" y="36576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6"/>
          <a:stretch/>
        </p:blipFill>
        <p:spPr>
          <a:xfrm>
            <a:off x="2595600" y="2924280"/>
            <a:ext cx="496800" cy="393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2395080" y="3301920"/>
            <a:ext cx="90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2133720" y="4267080"/>
            <a:ext cx="237600" cy="479520"/>
            <a:chOff x="2133720" y="4267080"/>
            <a:chExt cx="237600" cy="479520"/>
          </a:xfrm>
        </p:grpSpPr>
        <p:grpSp>
          <p:nvGrpSpPr>
            <p:cNvPr id="1054" name=""/>
            <p:cNvGrpSpPr/>
            <p:nvPr/>
          </p:nvGrpSpPr>
          <p:grpSpPr>
            <a:xfrm>
              <a:off x="2133720" y="4267080"/>
              <a:ext cx="237600" cy="479520"/>
              <a:chOff x="2133720" y="4267080"/>
              <a:chExt cx="237600" cy="479520"/>
            </a:xfrm>
          </p:grpSpPr>
          <p:sp>
            <p:nvSpPr>
              <p:cNvPr id="1055" name=""/>
              <p:cNvSpPr/>
              <p:nvPr/>
            </p:nvSpPr>
            <p:spPr>
              <a:xfrm>
                <a:off x="2134800" y="4323240"/>
                <a:ext cx="217440" cy="420120"/>
              </a:xfrm>
              <a:custGeom>
                <a:avLst/>
                <a:gdLst/>
                <a:ahLst/>
                <a:rect l="l" t="t" r="r" b="b"/>
                <a:pathLst>
                  <a:path w="179" h="403">
                    <a:moveTo>
                      <a:pt x="178" y="0"/>
                    </a:moveTo>
                    <a:lnTo>
                      <a:pt x="0" y="0"/>
                    </a:lnTo>
                    <a:lnTo>
                      <a:pt x="0" y="402"/>
                    </a:lnTo>
                    <a:lnTo>
                      <a:pt x="178" y="402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350800" y="4267080"/>
                <a:ext cx="20520" cy="479520"/>
              </a:xfrm>
              <a:custGeom>
                <a:avLst/>
                <a:gdLst/>
                <a:ahLst/>
                <a:rect l="l" t="t" r="r" b="b"/>
                <a:pathLst>
                  <a:path w="17" h="460">
                    <a:moveTo>
                      <a:pt x="16" y="26"/>
                    </a:moveTo>
                    <a:lnTo>
                      <a:pt x="15" y="396"/>
                    </a:lnTo>
                    <a:lnTo>
                      <a:pt x="0" y="459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16" y="26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34800" y="4708080"/>
                <a:ext cx="21492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133720" y="4381560"/>
                <a:ext cx="21456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50000" y="4350240"/>
                <a:ext cx="20520" cy="3240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30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6" y="3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134800" y="4269960"/>
                <a:ext cx="235800" cy="54000"/>
              </a:xfrm>
              <a:custGeom>
                <a:avLst/>
                <a:gdLst/>
                <a:ahLst/>
                <a:rect l="l" t="t" r="r" b="b"/>
                <a:pathLst>
                  <a:path w="194" h="52">
                    <a:moveTo>
                      <a:pt x="0" y="51"/>
                    </a:moveTo>
                    <a:lnTo>
                      <a:pt x="29" y="0"/>
                    </a:lnTo>
                    <a:lnTo>
                      <a:pt x="193" y="0"/>
                    </a:lnTo>
                    <a:lnTo>
                      <a:pt x="177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2139480" y="4327200"/>
                <a:ext cx="206280" cy="30960"/>
                <a:chOff x="2139480" y="4327200"/>
                <a:chExt cx="206280" cy="3096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2139480" y="4327200"/>
                  <a:ext cx="20628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3" name=""/>
                <p:cNvGrpSpPr/>
                <p:nvPr/>
              </p:nvGrpSpPr>
              <p:grpSpPr>
                <a:xfrm>
                  <a:off x="2142720" y="4327200"/>
                  <a:ext cx="198720" cy="30960"/>
                  <a:chOff x="2142720" y="4327200"/>
                  <a:chExt cx="198720" cy="309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142720" y="4327200"/>
                    <a:ext cx="198720" cy="22680"/>
                  </a:xfrm>
                  <a:prstGeom prst="rect">
                    <a:avLst/>
                  </a:prstGeom>
                  <a:solidFill>
                    <a:srgbClr val="9f9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147400" y="4332240"/>
                    <a:ext cx="9360" cy="8280"/>
                  </a:xfrm>
                  <a:prstGeom prst="rect">
                    <a:avLst/>
                  </a:pr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147400" y="4349880"/>
                    <a:ext cx="9360" cy="828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7" name=""/>
              <p:cNvSpPr/>
              <p:nvPr/>
            </p:nvSpPr>
            <p:spPr>
              <a:xfrm>
                <a:off x="2134800" y="4681800"/>
                <a:ext cx="214920" cy="17640"/>
              </a:xfrm>
              <a:custGeom>
                <a:avLst/>
                <a:gdLst/>
                <a:ahLst/>
                <a:rect l="l" t="t" r="r" b="b"/>
                <a:pathLst>
                  <a:path w="177" h="17">
                    <a:moveTo>
                      <a:pt x="17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76" y="16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2154240" y="4428360"/>
              <a:ext cx="158400" cy="235800"/>
              <a:chOff x="2154240" y="4428360"/>
              <a:chExt cx="158400" cy="235800"/>
            </a:xfrm>
          </p:grpSpPr>
          <p:sp>
            <p:nvSpPr>
              <p:cNvPr id="1069" name=""/>
              <p:cNvSpPr/>
              <p:nvPr/>
            </p:nvSpPr>
            <p:spPr>
              <a:xfrm>
                <a:off x="2175840" y="460044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40280" y="462348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66120" y="45954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201040" y="4629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2157120" y="45972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2201040" y="46234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2201400" y="46234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2210040" y="46234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196000" y="4625280"/>
                <a:ext cx="8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2196360" y="46231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 flipV="1">
                <a:off x="2158920" y="4599360"/>
                <a:ext cx="4104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215712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158920" y="459612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60000" y="4595400"/>
                <a:ext cx="49680" cy="2880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0"/>
                    </a:moveTo>
                    <a:lnTo>
                      <a:pt x="5" y="0"/>
                    </a:lnTo>
                    <a:lnTo>
                      <a:pt x="40" y="27"/>
                    </a:lnTo>
                    <a:lnTo>
                      <a:pt x="32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01400" y="46234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58920" y="459828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201400" y="46234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flipV="1">
                <a:off x="2158920" y="459720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75840" y="4573080"/>
                <a:ext cx="136800" cy="45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240280" y="45961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166120" y="456804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2201040" y="460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 flipV="1">
                <a:off x="2157120" y="456912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220104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2201400" y="459540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2210040" y="459540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2196000" y="4599000"/>
                <a:ext cx="8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2196360" y="459504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2158920" y="457272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2157120" y="456804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158920" y="4569120"/>
                <a:ext cx="0" cy="1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160000" y="456804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201400" y="45954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8920" y="457020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01400" y="45954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2158920" y="456912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175840" y="454500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240280" y="45691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66120" y="453996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2201040" y="45730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 flipV="1">
                <a:off x="2157120" y="454032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2201040" y="4566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2201400" y="456660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2210040" y="4566600"/>
                <a:ext cx="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 flipV="1">
                <a:off x="2196000" y="4572360"/>
                <a:ext cx="82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2196360" y="4566600"/>
                <a:ext cx="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 flipV="1">
                <a:off x="2158920" y="454464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2157120" y="4539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158920" y="454068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160000" y="453996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201400" y="45669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58920" y="4542840"/>
                <a:ext cx="43560" cy="309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0" y="2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5" y="29"/>
                    </a:lnTo>
                    <a:lnTo>
                      <a:pt x="35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400" y="45669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flipV="1">
                <a:off x="2158920" y="454032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175840" y="4516920"/>
                <a:ext cx="136800" cy="44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240280" y="453996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166120" y="451188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2201040" y="45460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2157120" y="451260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201040" y="45388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2201400" y="45388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2210040" y="453888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 flipV="1">
                <a:off x="2196000" y="4543920"/>
                <a:ext cx="82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2196360" y="4538520"/>
                <a:ext cx="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2158920" y="4516920"/>
                <a:ext cx="410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215712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158920" y="4512600"/>
                <a:ext cx="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160000" y="451188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201400" y="45388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158920" y="4514760"/>
                <a:ext cx="43560" cy="302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0" y="0"/>
                    </a:moveTo>
                    <a:lnTo>
                      <a:pt x="0" y="2"/>
                    </a:lnTo>
                    <a:lnTo>
                      <a:pt x="31" y="22"/>
                    </a:lnTo>
                    <a:lnTo>
                      <a:pt x="31" y="26"/>
                    </a:lnTo>
                    <a:lnTo>
                      <a:pt x="35" y="28"/>
                    </a:lnTo>
                    <a:lnTo>
                      <a:pt x="35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201400" y="453888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2158920" y="451260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175840" y="4489560"/>
                <a:ext cx="136800" cy="446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240280" y="451368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166120" y="448560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2199600" y="451908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2157120" y="4486680"/>
                <a:ext cx="4716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220104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199960" y="4512600"/>
                <a:ext cx="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2208600" y="4512600"/>
                <a:ext cx="0" cy="1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2194920" y="4516920"/>
                <a:ext cx="82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195280" y="4512600"/>
                <a:ext cx="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 flipV="1">
                <a:off x="2157480" y="448920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215712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158920" y="4485600"/>
                <a:ext cx="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60000" y="448560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1400" y="45126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158920" y="4488840"/>
                <a:ext cx="42480" cy="3024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0"/>
                    </a:moveTo>
                    <a:lnTo>
                      <a:pt x="0" y="2"/>
                    </a:lnTo>
                    <a:lnTo>
                      <a:pt x="30" y="22"/>
                    </a:lnTo>
                    <a:lnTo>
                      <a:pt x="30" y="26"/>
                    </a:lnTo>
                    <a:lnTo>
                      <a:pt x="34" y="28"/>
                    </a:lnTo>
                    <a:lnTo>
                      <a:pt x="34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201400" y="4512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2158920" y="4486680"/>
                <a:ext cx="4608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175840" y="4461480"/>
                <a:ext cx="136800" cy="45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240280" y="44845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166120" y="4456440"/>
                <a:ext cx="471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2201040" y="44917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2157120" y="4458600"/>
                <a:ext cx="4716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20104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2201400" y="44852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2210040" y="44852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flipV="1">
                <a:off x="2196000" y="4488480"/>
                <a:ext cx="8280" cy="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2196360" y="448524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 flipV="1">
                <a:off x="2158920" y="4462560"/>
                <a:ext cx="4104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215712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158920" y="445752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160000" y="4457520"/>
                <a:ext cx="49680" cy="2880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0" y="0"/>
                    </a:moveTo>
                    <a:lnTo>
                      <a:pt x="5" y="0"/>
                    </a:lnTo>
                    <a:lnTo>
                      <a:pt x="40" y="27"/>
                    </a:lnTo>
                    <a:lnTo>
                      <a:pt x="32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201400" y="44856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158920" y="4459320"/>
                <a:ext cx="43560" cy="3240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0" y="0"/>
                    </a:moveTo>
                    <a:lnTo>
                      <a:pt x="0" y="2"/>
                    </a:lnTo>
                    <a:lnTo>
                      <a:pt x="31" y="23"/>
                    </a:lnTo>
                    <a:lnTo>
                      <a:pt x="31" y="27"/>
                    </a:lnTo>
                    <a:lnTo>
                      <a:pt x="35" y="30"/>
                    </a:lnTo>
                    <a:lnTo>
                      <a:pt x="35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201400" y="448560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2158920" y="445896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175840" y="4434480"/>
                <a:ext cx="136800" cy="435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240280" y="4459320"/>
                <a:ext cx="9360" cy="8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166120" y="4430160"/>
                <a:ext cx="47160" cy="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2199600" y="44636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flipV="1">
                <a:off x="2157120" y="4430880"/>
                <a:ext cx="4716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220104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2199960" y="445752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2208600" y="4457520"/>
                <a:ext cx="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2194920" y="4462560"/>
                <a:ext cx="8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2195280" y="44571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 flipV="1">
                <a:off x="2157480" y="4435200"/>
                <a:ext cx="4104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157120" y="44301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158920" y="4430160"/>
                <a:ext cx="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160000" y="4430160"/>
                <a:ext cx="49680" cy="2808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0" y="0"/>
                    </a:moveTo>
                    <a:lnTo>
                      <a:pt x="5" y="0"/>
                    </a:lnTo>
                    <a:lnTo>
                      <a:pt x="40" y="26"/>
                    </a:lnTo>
                    <a:lnTo>
                      <a:pt x="32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201400" y="44575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158920" y="4432320"/>
                <a:ext cx="42480" cy="3204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0" y="0"/>
                    </a:moveTo>
                    <a:lnTo>
                      <a:pt x="0" y="2"/>
                    </a:lnTo>
                    <a:lnTo>
                      <a:pt x="30" y="24"/>
                    </a:lnTo>
                    <a:lnTo>
                      <a:pt x="30" y="27"/>
                    </a:lnTo>
                    <a:lnTo>
                      <a:pt x="34" y="30"/>
                    </a:lnTo>
                    <a:lnTo>
                      <a:pt x="34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201400" y="44575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 flipV="1">
                <a:off x="2158920" y="4430880"/>
                <a:ext cx="46080" cy="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66120" y="44427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166120" y="4469040"/>
                <a:ext cx="0" cy="2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66120" y="449712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166120" y="452412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66120" y="4552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166120" y="458064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166120" y="460656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57480" y="443772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57480" y="446364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57480" y="449172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57480" y="451800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57480" y="4547160"/>
                <a:ext cx="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57480" y="4574160"/>
                <a:ext cx="0" cy="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57480" y="46026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54240" y="4428360"/>
                <a:ext cx="0" cy="19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154240" y="4618080"/>
                <a:ext cx="6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157480" y="462132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154240" y="4428360"/>
                <a:ext cx="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154240" y="4428360"/>
                <a:ext cx="8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158920" y="44377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" y="0"/>
                    </a:moveTo>
                    <a:lnTo>
                      <a:pt x="16" y="4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158920" y="446364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" y="0"/>
                    </a:moveTo>
                    <a:lnTo>
                      <a:pt x="16" y="4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158920" y="4491000"/>
                <a:ext cx="20520" cy="216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" y="0"/>
                    </a:moveTo>
                    <a:lnTo>
                      <a:pt x="16" y="4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158920" y="45180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" y="0"/>
                    </a:moveTo>
                    <a:lnTo>
                      <a:pt x="16" y="4"/>
                    </a:lnTo>
                    <a:lnTo>
                      <a:pt x="16" y="20"/>
                    </a:lnTo>
                    <a:lnTo>
                      <a:pt x="0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158920" y="454716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" y="0"/>
                    </a:moveTo>
                    <a:lnTo>
                      <a:pt x="16" y="3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157480" y="460152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2" y="0"/>
                    </a:moveTo>
                    <a:lnTo>
                      <a:pt x="16" y="4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57480" y="45730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2" y="0"/>
                    </a:moveTo>
                    <a:lnTo>
                      <a:pt x="16" y="4"/>
                    </a:lnTo>
                    <a:lnTo>
                      <a:pt x="16" y="21"/>
                    </a:lnTo>
                    <a:lnTo>
                      <a:pt x="0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54240" y="4430160"/>
                <a:ext cx="20520" cy="189720"/>
              </a:xfrm>
              <a:custGeom>
                <a:avLst/>
                <a:gdLst/>
                <a:ahLst/>
                <a:rect l="l" t="t" r="r" b="b"/>
                <a:pathLst>
                  <a:path w="17" h="182">
                    <a:moveTo>
                      <a:pt x="0" y="0"/>
                    </a:moveTo>
                    <a:lnTo>
                      <a:pt x="16" y="2"/>
                    </a:lnTo>
                    <a:lnTo>
                      <a:pt x="13" y="181"/>
                    </a:lnTo>
                    <a:lnTo>
                      <a:pt x="0" y="17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154240" y="442836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2157120" y="4664160"/>
                <a:ext cx="1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990360" y="5410080"/>
            <a:ext cx="17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row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791320" y="281952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839920" y="2895480"/>
            <a:ext cx="2458440" cy="3358080"/>
            <a:chOff x="5839920" y="2895480"/>
            <a:chExt cx="2458440" cy="3358080"/>
          </a:xfrm>
        </p:grpSpPr>
        <p:grpSp>
          <p:nvGrpSpPr>
            <p:cNvPr id="1227" name=""/>
            <p:cNvGrpSpPr/>
            <p:nvPr/>
          </p:nvGrpSpPr>
          <p:grpSpPr>
            <a:xfrm>
              <a:off x="6677640" y="2895480"/>
              <a:ext cx="161280" cy="823320"/>
              <a:chOff x="6677640" y="2895480"/>
              <a:chExt cx="161280" cy="8233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755400" y="2895480"/>
                <a:ext cx="2880" cy="6588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5400000">
                <a:off x="6621120" y="3501000"/>
                <a:ext cx="274320" cy="16128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90" y="24"/>
                    </a:lnTo>
                    <a:lnTo>
                      <a:pt x="0" y="0"/>
                    </a:lnTo>
                    <a:lnTo>
                      <a:pt x="30" y="2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6629400" y="4038480"/>
              <a:ext cx="239400" cy="479520"/>
              <a:chOff x="6629400" y="4038480"/>
              <a:chExt cx="239400" cy="479520"/>
            </a:xfrm>
          </p:grpSpPr>
          <p:grpSp>
            <p:nvGrpSpPr>
              <p:cNvPr id="1231" name=""/>
              <p:cNvGrpSpPr/>
              <p:nvPr/>
            </p:nvGrpSpPr>
            <p:grpSpPr>
              <a:xfrm>
                <a:off x="6629400" y="4038480"/>
                <a:ext cx="239400" cy="479520"/>
                <a:chOff x="6629400" y="4038480"/>
                <a:chExt cx="239400" cy="47952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6630480" y="4094640"/>
                  <a:ext cx="219240" cy="420120"/>
                </a:xfrm>
                <a:custGeom>
                  <a:avLst/>
                  <a:gdLst/>
                  <a:ahLst/>
                  <a:rect l="l" t="t" r="r" b="b"/>
                  <a:pathLst>
                    <a:path w="179" h="403">
                      <a:moveTo>
                        <a:pt x="178" y="0"/>
                      </a:moveTo>
                      <a:lnTo>
                        <a:pt x="0" y="0"/>
                      </a:lnTo>
                      <a:lnTo>
                        <a:pt x="0" y="402"/>
                      </a:lnTo>
                      <a:lnTo>
                        <a:pt x="178" y="402"/>
                      </a:lnTo>
                      <a:lnTo>
                        <a:pt x="178" y="0"/>
                      </a:lnTo>
                    </a:path>
                  </a:pathLst>
                </a:custGeom>
                <a:solidFill>
                  <a:srgbClr val="b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6848280" y="4038480"/>
                  <a:ext cx="20520" cy="479520"/>
                </a:xfrm>
                <a:custGeom>
                  <a:avLst/>
                  <a:gdLst/>
                  <a:ahLst/>
                  <a:rect l="l" t="t" r="r" b="b"/>
                  <a:pathLst>
                    <a:path w="17" h="460">
                      <a:moveTo>
                        <a:pt x="16" y="26"/>
                      </a:moveTo>
                      <a:lnTo>
                        <a:pt x="15" y="396"/>
                      </a:lnTo>
                      <a:lnTo>
                        <a:pt x="0" y="459"/>
                      </a:lnTo>
                      <a:lnTo>
                        <a:pt x="0" y="117"/>
                      </a:lnTo>
                      <a:lnTo>
                        <a:pt x="0" y="81"/>
                      </a:lnTo>
                      <a:lnTo>
                        <a:pt x="0" y="53"/>
                      </a:lnTo>
                      <a:lnTo>
                        <a:pt x="15" y="0"/>
                      </a:lnTo>
                      <a:lnTo>
                        <a:pt x="16" y="26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630480" y="4479480"/>
                  <a:ext cx="216720" cy="1764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629400" y="4152960"/>
                  <a:ext cx="216360" cy="1764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746760" y="4121640"/>
                  <a:ext cx="20520" cy="3240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6" y="30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16" y="3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30480" y="4041360"/>
                  <a:ext cx="237600" cy="54000"/>
                </a:xfrm>
                <a:custGeom>
                  <a:avLst/>
                  <a:gdLst/>
                  <a:ahLst/>
                  <a:rect l="l" t="t" r="r" b="b"/>
                  <a:pathLst>
                    <a:path w="194" h="52">
                      <a:moveTo>
                        <a:pt x="0" y="51"/>
                      </a:moveTo>
                      <a:lnTo>
                        <a:pt x="29" y="0"/>
                      </a:lnTo>
                      <a:lnTo>
                        <a:pt x="193" y="0"/>
                      </a:lnTo>
                      <a:lnTo>
                        <a:pt x="177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8" name=""/>
                <p:cNvGrpSpPr/>
                <p:nvPr/>
              </p:nvGrpSpPr>
              <p:grpSpPr>
                <a:xfrm>
                  <a:off x="6635160" y="4098600"/>
                  <a:ext cx="208080" cy="30960"/>
                  <a:chOff x="6635160" y="4098600"/>
                  <a:chExt cx="208080" cy="30960"/>
                </a:xfrm>
              </p:grpSpPr>
              <p:sp>
                <p:nvSpPr>
                  <p:cNvPr id="1239" name=""/>
                  <p:cNvSpPr/>
                  <p:nvPr/>
                </p:nvSpPr>
                <p:spPr>
                  <a:xfrm>
                    <a:off x="6635160" y="4098600"/>
                    <a:ext cx="208080" cy="237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6638760" y="4098600"/>
                    <a:ext cx="200520" cy="30960"/>
                    <a:chOff x="6638760" y="4098600"/>
                    <a:chExt cx="200520" cy="3096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38760" y="4098600"/>
                      <a:ext cx="200520" cy="2268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6643440" y="4103640"/>
                      <a:ext cx="9360" cy="828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6643440" y="4121280"/>
                      <a:ext cx="9360" cy="8280"/>
                    </a:xfrm>
                    <a:prstGeom prst="rect">
                      <a:avLst/>
                    </a:prstGeom>
                    <a:solidFill>
                      <a:srgbClr val="008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44" name=""/>
                <p:cNvSpPr/>
                <p:nvPr/>
              </p:nvSpPr>
              <p:spPr>
                <a:xfrm>
                  <a:off x="6630480" y="4453200"/>
                  <a:ext cx="216720" cy="17640"/>
                </a:xfrm>
                <a:custGeom>
                  <a:avLst/>
                  <a:gdLst/>
                  <a:ahLst/>
                  <a:rect l="l" t="t" r="r" b="b"/>
                  <a:pathLst>
                    <a:path w="177" h="17">
                      <a:moveTo>
                        <a:pt x="17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76" y="16"/>
                      </a:lnTo>
                      <a:lnTo>
                        <a:pt x="176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649920" y="4199760"/>
                <a:ext cx="159480" cy="235800"/>
                <a:chOff x="6649920" y="4199760"/>
                <a:chExt cx="159480" cy="23580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671520" y="4371840"/>
                  <a:ext cx="137880" cy="435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736320" y="439488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661800" y="436680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6697080" y="4401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 flipV="1">
                  <a:off x="6653520" y="436860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6697080" y="43948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6697440" y="439488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6706080" y="439488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 flipV="1">
                  <a:off x="6692040" y="4396680"/>
                  <a:ext cx="828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6692400" y="4394520"/>
                  <a:ext cx="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 flipV="1">
                  <a:off x="6654240" y="4370760"/>
                  <a:ext cx="41400" cy="2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6653160" y="43668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654600" y="4367520"/>
                  <a:ext cx="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655680" y="4366800"/>
                  <a:ext cx="50040" cy="2880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697440" y="439488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654600" y="4369680"/>
                  <a:ext cx="43920" cy="3240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697440" y="43948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flipV="1">
                  <a:off x="6654240" y="4368600"/>
                  <a:ext cx="4644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671520" y="4344480"/>
                  <a:ext cx="137880" cy="45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36320" y="436752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661800" y="4339440"/>
                  <a:ext cx="4752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6697080" y="4374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 flipV="1">
                  <a:off x="6653520" y="434052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>
                  <a:off x="6697080" y="43668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6697440" y="436680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6706080" y="436680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 flipV="1">
                  <a:off x="6692040" y="4370400"/>
                  <a:ext cx="828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V="1">
                  <a:off x="6692400" y="4366440"/>
                  <a:ext cx="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 flipV="1">
                  <a:off x="6654240" y="4344120"/>
                  <a:ext cx="4140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6653160" y="433944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654600" y="4340520"/>
                  <a:ext cx="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655680" y="4339440"/>
                  <a:ext cx="50040" cy="2808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697440" y="436680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654600" y="4341600"/>
                  <a:ext cx="43920" cy="3240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697440" y="43668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 flipV="1">
                  <a:off x="6654240" y="4340520"/>
                  <a:ext cx="4644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6671520" y="4316400"/>
                  <a:ext cx="137880" cy="435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736320" y="434052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661800" y="4311360"/>
                  <a:ext cx="4752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6697080" y="43444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>
                  <a:off x="6653520" y="4311720"/>
                  <a:ext cx="4752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6697080" y="433836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V="1">
                  <a:off x="6697440" y="4338000"/>
                  <a:ext cx="0" cy="1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6706080" y="4338000"/>
                  <a:ext cx="0" cy="1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 flipV="1">
                  <a:off x="6692040" y="4343760"/>
                  <a:ext cx="828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6692400" y="4338000"/>
                  <a:ext cx="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>
                  <a:off x="6654240" y="4316040"/>
                  <a:ext cx="4140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6653160" y="431136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654600" y="4312080"/>
                  <a:ext cx="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6655680" y="4311360"/>
                  <a:ext cx="50040" cy="2808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697440" y="43383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654600" y="4314240"/>
                  <a:ext cx="43920" cy="3096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9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697440" y="433836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 flipV="1">
                  <a:off x="6654240" y="4311720"/>
                  <a:ext cx="4644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671520" y="4288320"/>
                  <a:ext cx="137880" cy="44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736320" y="431136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661800" y="428328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6697080" y="43174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 flipV="1">
                  <a:off x="6653520" y="428400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6697080" y="43102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6697440" y="431028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V="1">
                  <a:off x="6706080" y="431028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 flipV="1">
                  <a:off x="6692040" y="4315320"/>
                  <a:ext cx="82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V="1">
                  <a:off x="6692400" y="4309920"/>
                  <a:ext cx="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 flipV="1">
                  <a:off x="6654240" y="4288320"/>
                  <a:ext cx="4140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6653160" y="4284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654600" y="4284000"/>
                  <a:ext cx="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655680" y="4283280"/>
                  <a:ext cx="50040" cy="2808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697440" y="431028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654600" y="4286160"/>
                  <a:ext cx="43920" cy="3024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2"/>
                      </a:lnTo>
                      <a:lnTo>
                        <a:pt x="31" y="26"/>
                      </a:lnTo>
                      <a:lnTo>
                        <a:pt x="35" y="28"/>
                      </a:lnTo>
                      <a:lnTo>
                        <a:pt x="35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697440" y="431028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 flipV="1">
                  <a:off x="6654240" y="4284000"/>
                  <a:ext cx="4644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671520" y="4260960"/>
                  <a:ext cx="137880" cy="4464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736320" y="428508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661800" y="4257000"/>
                  <a:ext cx="4752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6695640" y="429048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>
                  <a:off x="6653520" y="4258080"/>
                  <a:ext cx="4752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>
                  <a:off x="6697080" y="4284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6696000" y="4284000"/>
                  <a:ext cx="0" cy="1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6704640" y="4284000"/>
                  <a:ext cx="0" cy="1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 flipV="1">
                  <a:off x="6690960" y="4288320"/>
                  <a:ext cx="828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6691320" y="4284000"/>
                  <a:ext cx="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 flipV="1">
                  <a:off x="6653160" y="4260600"/>
                  <a:ext cx="4140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6653160" y="4257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654600" y="4257000"/>
                  <a:ext cx="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655680" y="4257000"/>
                  <a:ext cx="50040" cy="2808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697440" y="428400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654600" y="4260240"/>
                  <a:ext cx="42840" cy="30240"/>
                </a:xfrm>
                <a:custGeom>
                  <a:avLst/>
                  <a:gdLst/>
                  <a:ahLst/>
                  <a:rect l="l" t="t" r="r" b="b"/>
                  <a:pathLst>
                    <a:path w="35" h="29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2"/>
                      </a:lnTo>
                      <a:lnTo>
                        <a:pt x="30" y="26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6697440" y="4284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 flipV="1">
                  <a:off x="6654240" y="4258080"/>
                  <a:ext cx="46440" cy="2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1520" y="4232880"/>
                  <a:ext cx="137880" cy="457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736320" y="425592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661800" y="4227840"/>
                  <a:ext cx="475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>
                  <a:off x="6697080" y="426312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 flipV="1">
                  <a:off x="6653520" y="4230000"/>
                  <a:ext cx="4752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6697080" y="4257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V="1">
                  <a:off x="6697440" y="425664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V="1">
                  <a:off x="6706080" y="425664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 flipV="1">
                  <a:off x="6692040" y="4259880"/>
                  <a:ext cx="8280" cy="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V="1">
                  <a:off x="6692400" y="4256640"/>
                  <a:ext cx="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 flipV="1">
                  <a:off x="6654240" y="4233960"/>
                  <a:ext cx="41400" cy="2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6653160" y="422892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4600" y="4228920"/>
                  <a:ext cx="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655680" y="4228920"/>
                  <a:ext cx="50040" cy="28800"/>
                </a:xfrm>
                <a:custGeom>
                  <a:avLst/>
                  <a:gdLst/>
                  <a:ahLst/>
                  <a:rect l="l" t="t" r="r" b="b"/>
                  <a:pathLst>
                    <a:path w="41" h="28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7"/>
                      </a:lnTo>
                      <a:lnTo>
                        <a:pt x="32" y="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6697440" y="425700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54600" y="4230720"/>
                  <a:ext cx="43920" cy="3240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1" y="23"/>
                      </a:lnTo>
                      <a:lnTo>
                        <a:pt x="31" y="27"/>
                      </a:lnTo>
                      <a:lnTo>
                        <a:pt x="35" y="30"/>
                      </a:lnTo>
                      <a:lnTo>
                        <a:pt x="35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97440" y="425700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 flipV="1">
                  <a:off x="6654240" y="4230360"/>
                  <a:ext cx="4644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6671520" y="4205880"/>
                  <a:ext cx="137880" cy="435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736320" y="4230720"/>
                  <a:ext cx="9360" cy="82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61800" y="4201560"/>
                  <a:ext cx="47520" cy="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6695640" y="4235040"/>
                  <a:ext cx="1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 flipV="1">
                  <a:off x="6653520" y="4202280"/>
                  <a:ext cx="4752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6697080" y="422892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V="1">
                  <a:off x="6696000" y="422892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6704640" y="4228920"/>
                  <a:ext cx="0" cy="1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 flipV="1">
                  <a:off x="6690960" y="4233960"/>
                  <a:ext cx="82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V="1">
                  <a:off x="6691320" y="4228560"/>
                  <a:ext cx="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 flipV="1">
                  <a:off x="6653160" y="4206600"/>
                  <a:ext cx="4140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>
                  <a:off x="6653160" y="420156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654600" y="4201560"/>
                  <a:ext cx="0" cy="8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6655680" y="4201560"/>
                  <a:ext cx="50040" cy="28080"/>
                </a:xfrm>
                <a:custGeom>
                  <a:avLst/>
                  <a:gdLst/>
                  <a:ahLst/>
                  <a:rect l="l" t="t" r="r" b="b"/>
                  <a:pathLst>
                    <a:path w="41" h="27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40" y="26"/>
                      </a:lnTo>
                      <a:lnTo>
                        <a:pt x="32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697440" y="422892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654600" y="4203720"/>
                  <a:ext cx="42840" cy="3204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0" y="24"/>
                      </a:lnTo>
                      <a:lnTo>
                        <a:pt x="30" y="27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697440" y="422892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 flipV="1">
                  <a:off x="6654240" y="4202280"/>
                  <a:ext cx="46440" cy="2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661800" y="421416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661800" y="4240440"/>
                  <a:ext cx="0" cy="2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61800" y="4268520"/>
                  <a:ext cx="0" cy="1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661800" y="429552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661800" y="4323960"/>
                  <a:ext cx="0" cy="20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661800" y="4352040"/>
                  <a:ext cx="0" cy="1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661800" y="4377960"/>
                  <a:ext cx="0" cy="1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653520" y="4209120"/>
                  <a:ext cx="0" cy="2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6653520" y="4235040"/>
                  <a:ext cx="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653520" y="4263120"/>
                  <a:ext cx="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653520" y="4289400"/>
                  <a:ext cx="0" cy="2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653520" y="4318560"/>
                  <a:ext cx="0" cy="2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653520" y="4345560"/>
                  <a:ext cx="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653520" y="4374000"/>
                  <a:ext cx="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649920" y="4199760"/>
                  <a:ext cx="0" cy="19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649920" y="4389480"/>
                  <a:ext cx="720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653520" y="439272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649920" y="419976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649920" y="4199760"/>
                  <a:ext cx="82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654600" y="42091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654600" y="4235040"/>
                  <a:ext cx="20520" cy="1980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18"/>
                      </a:lnTo>
                      <a:lnTo>
                        <a:pt x="0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654600" y="4262400"/>
                  <a:ext cx="20520" cy="2160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654600" y="4289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1" y="0"/>
                      </a:moveTo>
                      <a:lnTo>
                        <a:pt x="16" y="4"/>
                      </a:lnTo>
                      <a:lnTo>
                        <a:pt x="16" y="20"/>
                      </a:lnTo>
                      <a:lnTo>
                        <a:pt x="0" y="2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654600" y="431856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" y="0"/>
                      </a:moveTo>
                      <a:lnTo>
                        <a:pt x="16" y="3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653520" y="43729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653520" y="434448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2" y="0"/>
                      </a:moveTo>
                      <a:lnTo>
                        <a:pt x="16" y="4"/>
                      </a:lnTo>
                      <a:lnTo>
                        <a:pt x="16" y="21"/>
                      </a:lnTo>
                      <a:lnTo>
                        <a:pt x="0" y="2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649920" y="4201560"/>
                  <a:ext cx="20520" cy="189720"/>
                </a:xfrm>
                <a:custGeom>
                  <a:avLst/>
                  <a:gdLst/>
                  <a:ahLst/>
                  <a:rect l="l" t="t" r="r" b="b"/>
                  <a:pathLst>
                    <a:path w="17" h="182">
                      <a:moveTo>
                        <a:pt x="0" y="0"/>
                      </a:moveTo>
                      <a:lnTo>
                        <a:pt x="16" y="2"/>
                      </a:lnTo>
                      <a:lnTo>
                        <a:pt x="13" y="181"/>
                      </a:lnTo>
                      <a:lnTo>
                        <a:pt x="0" y="17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649920" y="419976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>
                  <a:off x="6653160" y="4435560"/>
                  <a:ext cx="1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1" name=""/>
            <p:cNvGrpSpPr/>
            <p:nvPr/>
          </p:nvGrpSpPr>
          <p:grpSpPr>
            <a:xfrm>
              <a:off x="5839920" y="4495680"/>
              <a:ext cx="1924920" cy="1757880"/>
              <a:chOff x="5839920" y="4495680"/>
              <a:chExt cx="1924920" cy="1757880"/>
            </a:xfrm>
          </p:grpSpPr>
          <p:grpSp>
            <p:nvGrpSpPr>
              <p:cNvPr id="1402" name=""/>
              <p:cNvGrpSpPr/>
              <p:nvPr/>
            </p:nvGrpSpPr>
            <p:grpSpPr>
              <a:xfrm>
                <a:off x="5839920" y="4768920"/>
                <a:ext cx="1924920" cy="1484640"/>
                <a:chOff x="5839920" y="4768920"/>
                <a:chExt cx="1924920" cy="1484640"/>
              </a:xfrm>
            </p:grpSpPr>
            <p:sp>
              <p:nvSpPr>
                <p:cNvPr id="1403" name=""/>
                <p:cNvSpPr/>
                <p:nvPr/>
              </p:nvSpPr>
              <p:spPr>
                <a:xfrm rot="540000">
                  <a:off x="6500880" y="4800600"/>
                  <a:ext cx="442440" cy="46764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540000">
                  <a:off x="6885360" y="4818600"/>
                  <a:ext cx="360720" cy="3762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540000">
                  <a:off x="7151760" y="5292360"/>
                  <a:ext cx="569160" cy="60084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540000">
                  <a:off x="6027480" y="5358600"/>
                  <a:ext cx="655920" cy="69012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540000">
                  <a:off x="6945120" y="5603760"/>
                  <a:ext cx="484920" cy="5115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540000">
                  <a:off x="5867280" y="5437800"/>
                  <a:ext cx="360720" cy="37620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rot="540000">
                  <a:off x="5866920" y="5121720"/>
                  <a:ext cx="360720" cy="37836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540000">
                  <a:off x="6065640" y="4820400"/>
                  <a:ext cx="570600" cy="59868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rot="540000">
                  <a:off x="6468480" y="5613840"/>
                  <a:ext cx="570600" cy="59868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rot="540000">
                  <a:off x="7272000" y="5079600"/>
                  <a:ext cx="446040" cy="46512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540000">
                  <a:off x="7174800" y="4879440"/>
                  <a:ext cx="402840" cy="419040"/>
                </a:xfrm>
                <a:prstGeom prst="ellipse">
                  <a:avLst/>
                </a:prstGeom>
                <a:solidFill>
                  <a:srgbClr val="cc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031440" y="4883400"/>
                  <a:ext cx="1599120" cy="1108800"/>
                </a:xfrm>
                <a:custGeom>
                  <a:avLst/>
                  <a:gdLst/>
                  <a:ahLst/>
                  <a:rect l="l" t="t" r="r" b="b"/>
                  <a:pathLst>
                    <a:path w="936" h="548">
                      <a:moveTo>
                        <a:pt x="316" y="34"/>
                      </a:moveTo>
                      <a:lnTo>
                        <a:pt x="362" y="0"/>
                      </a:lnTo>
                      <a:lnTo>
                        <a:pt x="537" y="31"/>
                      </a:lnTo>
                      <a:lnTo>
                        <a:pt x="663" y="32"/>
                      </a:lnTo>
                      <a:lnTo>
                        <a:pt x="809" y="124"/>
                      </a:lnTo>
                      <a:lnTo>
                        <a:pt x="890" y="118"/>
                      </a:lnTo>
                      <a:lnTo>
                        <a:pt x="932" y="131"/>
                      </a:lnTo>
                      <a:lnTo>
                        <a:pt x="914" y="299"/>
                      </a:lnTo>
                      <a:lnTo>
                        <a:pt x="935" y="330"/>
                      </a:lnTo>
                      <a:lnTo>
                        <a:pt x="842" y="447"/>
                      </a:lnTo>
                      <a:lnTo>
                        <a:pt x="777" y="347"/>
                      </a:lnTo>
                      <a:lnTo>
                        <a:pt x="748" y="388"/>
                      </a:lnTo>
                      <a:lnTo>
                        <a:pt x="610" y="547"/>
                      </a:lnTo>
                      <a:lnTo>
                        <a:pt x="230" y="536"/>
                      </a:lnTo>
                      <a:lnTo>
                        <a:pt x="44" y="471"/>
                      </a:lnTo>
                      <a:lnTo>
                        <a:pt x="0" y="352"/>
                      </a:lnTo>
                      <a:lnTo>
                        <a:pt x="18" y="240"/>
                      </a:lnTo>
                      <a:lnTo>
                        <a:pt x="3" y="141"/>
                      </a:lnTo>
                      <a:lnTo>
                        <a:pt x="316" y="34"/>
                      </a:lnTo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"/>
              <p:cNvSpPr/>
              <p:nvPr/>
            </p:nvSpPr>
            <p:spPr>
              <a:xfrm>
                <a:off x="6781680" y="4495680"/>
                <a:ext cx="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174720" y="4952880"/>
                <a:ext cx="13266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EB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PEG-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4...756kbit/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5854680" y="3112200"/>
              <a:ext cx="799560" cy="552240"/>
              <a:chOff x="5854680" y="3112200"/>
              <a:chExt cx="799560" cy="552240"/>
            </a:xfrm>
          </p:grpSpPr>
          <p:sp>
            <p:nvSpPr>
              <p:cNvPr id="1418" name=""/>
              <p:cNvSpPr/>
              <p:nvPr/>
            </p:nvSpPr>
            <p:spPr>
              <a:xfrm>
                <a:off x="5854680" y="3112200"/>
                <a:ext cx="610920" cy="4014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988400">
                <a:off x="6339600" y="3464640"/>
                <a:ext cx="304560" cy="1267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90" y="24"/>
                    </a:lnTo>
                    <a:lnTo>
                      <a:pt x="0" y="0"/>
                    </a:lnTo>
                    <a:lnTo>
                      <a:pt x="30" y="2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6095880" y="3695760"/>
              <a:ext cx="1447920" cy="304920"/>
            </a:xfrm>
            <a:prstGeom prst="rect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ransco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58720" y="41148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B-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 flipH="1">
            <a:off x="5776920" y="1481040"/>
            <a:ext cx="272880" cy="1543320"/>
          </a:xfrm>
          <a:custGeom>
            <a:avLst/>
            <a:gdLst>
              <a:gd name="textAreaLeft" fmla="*/ 36360 w 272880"/>
              <a:gd name="textAreaRight" fmla="*/ 236520 w 272880"/>
              <a:gd name="textAreaTop" fmla="*/ 270000 h 1543320"/>
              <a:gd name="textAreaBottom" fmla="*/ 1118880 h 15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63920" y="1444680"/>
            <a:ext cx="345960" cy="1255680"/>
          </a:xfrm>
          <a:custGeom>
            <a:avLst/>
            <a:gdLst>
              <a:gd name="textAreaLeft" fmla="*/ 46080 w 345960"/>
              <a:gd name="textAreaRight" fmla="*/ 299880 w 345960"/>
              <a:gd name="textAreaTop" fmla="*/ 219600 h 1255680"/>
              <a:gd name="textAreaBottom" fmla="*/ 910440 h 12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49840" y="1346040"/>
            <a:ext cx="1823760" cy="39240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800240" y="2057400"/>
            <a:ext cx="125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roadca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28880" y="329076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66880" y="4937040"/>
            <a:ext cx="1482840" cy="144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ows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PEG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.2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-Frames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0" y="1282680"/>
            <a:ext cx="1531800" cy="1321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PEG-2 / 4:2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-Frames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366920" y="533520"/>
            <a:ext cx="5807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PEG Television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600200" y="3994200"/>
            <a:ext cx="1447920" cy="304920"/>
          </a:xfrm>
          <a:prstGeom prst="rect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1367280" y="609480"/>
            <a:ext cx="4182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ata-Rate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422640" y="1919160"/>
            <a:ext cx="1989720" cy="2504160"/>
            <a:chOff x="422640" y="1919160"/>
            <a:chExt cx="1989720" cy="2504160"/>
          </a:xfrm>
        </p:grpSpPr>
        <p:sp>
          <p:nvSpPr>
            <p:cNvPr id="1433" name=""/>
            <p:cNvSpPr/>
            <p:nvPr/>
          </p:nvSpPr>
          <p:spPr>
            <a:xfrm>
              <a:off x="422640" y="3414600"/>
              <a:ext cx="1989720" cy="1008720"/>
            </a:xfrm>
            <a:prstGeom prst="rect">
              <a:avLst/>
            </a:prstGeom>
            <a:noFill/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eduction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Y/C Re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(CIF, QCI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900000" y="1919160"/>
              <a:ext cx="1066320" cy="1371600"/>
            </a:xfrm>
            <a:prstGeom prst="downArrow">
              <a:avLst>
                <a:gd name="adj1" fmla="val 50000"/>
                <a:gd name="adj2" fmla="val 3215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917640" y="5106960"/>
            <a:ext cx="8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5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2607840" y="1925640"/>
            <a:ext cx="1991160" cy="3641040"/>
            <a:chOff x="2607840" y="1925640"/>
            <a:chExt cx="1991160" cy="3641040"/>
          </a:xfrm>
        </p:grpSpPr>
        <p:grpSp>
          <p:nvGrpSpPr>
            <p:cNvPr id="1437" name=""/>
            <p:cNvGrpSpPr/>
            <p:nvPr/>
          </p:nvGrpSpPr>
          <p:grpSpPr>
            <a:xfrm>
              <a:off x="2607840" y="1925640"/>
              <a:ext cx="1991160" cy="2504160"/>
              <a:chOff x="2607840" y="1925640"/>
              <a:chExt cx="1991160" cy="2504160"/>
            </a:xfrm>
          </p:grpSpPr>
          <p:sp>
            <p:nvSpPr>
              <p:cNvPr id="1438" name=""/>
              <p:cNvSpPr/>
              <p:nvPr/>
            </p:nvSpPr>
            <p:spPr>
              <a:xfrm>
                <a:off x="2607840" y="3421080"/>
                <a:ext cx="1991160" cy="1008720"/>
              </a:xfrm>
              <a:prstGeom prst="rect">
                <a:avLst/>
              </a:prstGeom>
              <a:noFill/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Reduction o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Picture-Qual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(Quantisatio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085920" y="1925640"/>
                <a:ext cx="1067040" cy="1371600"/>
              </a:xfrm>
              <a:prstGeom prst="downArrow">
                <a:avLst>
                  <a:gd name="adj1" fmla="val 50000"/>
                  <a:gd name="adj2" fmla="val 32136"/>
                </a:avLst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2768760" y="5106960"/>
              <a:ext cx="18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~ 10 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4768920" y="1925640"/>
            <a:ext cx="2020320" cy="3641040"/>
            <a:chOff x="4768920" y="1925640"/>
            <a:chExt cx="2020320" cy="3641040"/>
          </a:xfrm>
        </p:grpSpPr>
        <p:grpSp>
          <p:nvGrpSpPr>
            <p:cNvPr id="1442" name=""/>
            <p:cNvGrpSpPr/>
            <p:nvPr/>
          </p:nvGrpSpPr>
          <p:grpSpPr>
            <a:xfrm>
              <a:off x="4768920" y="1925640"/>
              <a:ext cx="2020320" cy="2504160"/>
              <a:chOff x="4768920" y="1925640"/>
              <a:chExt cx="2020320" cy="2504160"/>
            </a:xfrm>
          </p:grpSpPr>
          <p:sp>
            <p:nvSpPr>
              <p:cNvPr id="1443" name=""/>
              <p:cNvSpPr/>
              <p:nvPr/>
            </p:nvSpPr>
            <p:spPr>
              <a:xfrm>
                <a:off x="4768920" y="3421080"/>
                <a:ext cx="2020320" cy="1008720"/>
              </a:xfrm>
              <a:prstGeom prst="rect">
                <a:avLst/>
              </a:prstGeom>
              <a:noFill/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Interfram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Redundan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Arial"/>
                  </a:rPr>
                  <a:t>(B &amp; P-Frame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257440" y="1925640"/>
                <a:ext cx="1066680" cy="1371600"/>
              </a:xfrm>
              <a:prstGeom prst="downArrow">
                <a:avLst>
                  <a:gd name="adj1" fmla="val 50000"/>
                  <a:gd name="adj2" fmla="val 32146"/>
                </a:avLst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5118120" y="510696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~ 3 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7005600" y="1944720"/>
            <a:ext cx="1736640" cy="3556800"/>
            <a:chOff x="7005600" y="1944720"/>
            <a:chExt cx="1736640" cy="3556800"/>
          </a:xfrm>
        </p:grpSpPr>
        <p:sp>
          <p:nvSpPr>
            <p:cNvPr id="1447" name=""/>
            <p:cNvSpPr/>
            <p:nvPr/>
          </p:nvSpPr>
          <p:spPr>
            <a:xfrm>
              <a:off x="7005600" y="3405240"/>
              <a:ext cx="1736640" cy="1313640"/>
            </a:xfrm>
            <a:prstGeom prst="rect">
              <a:avLst/>
            </a:prstGeom>
            <a:noFill/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eduction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Temp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es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(Frame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77040" y="1944720"/>
              <a:ext cx="1067040" cy="1371600"/>
            </a:xfrm>
            <a:prstGeom prst="downArrow">
              <a:avLst>
                <a:gd name="adj1" fmla="val 50000"/>
                <a:gd name="adj2" fmla="val 32136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302600" y="50418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~1 : 1,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558800" y="1295280"/>
            <a:ext cx="5742000" cy="4172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78080" y="5586480"/>
            <a:ext cx="711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5              1                 1.5                 2                 2.5                3    Mbit/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t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6200000">
            <a:off x="261360" y="3453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ctur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16200000">
            <a:off x="831240" y="17240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16200000">
            <a:off x="831240" y="498960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195560" y="45496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1214280" y="23904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519200" y="1906560"/>
            <a:ext cx="5791320" cy="1649520"/>
          </a:xfrm>
          <a:custGeom>
            <a:avLst/>
            <a:gdLst/>
            <a:ahLst/>
            <a:rect l="l" t="t" r="r" b="b"/>
            <a:pathLst>
              <a:path w="1194" h="480">
                <a:moveTo>
                  <a:pt x="0" y="0"/>
                </a:moveTo>
                <a:lnTo>
                  <a:pt x="300" y="168"/>
                </a:lnTo>
                <a:lnTo>
                  <a:pt x="594" y="306"/>
                </a:lnTo>
                <a:lnTo>
                  <a:pt x="894" y="420"/>
                </a:lnTo>
                <a:lnTo>
                  <a:pt x="1194" y="48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930920" y="2755800"/>
            <a:ext cx="2369880" cy="63036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655720" y="1295280"/>
            <a:ext cx="0" cy="42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16040" y="5465880"/>
            <a:ext cx="478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976640" y="1295280"/>
            <a:ext cx="0" cy="424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830760" y="1295280"/>
            <a:ext cx="0" cy="417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149880" y="1295280"/>
            <a:ext cx="0" cy="41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27120" y="4856040"/>
            <a:ext cx="57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68520" y="4216320"/>
            <a:ext cx="573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30360" y="3635280"/>
            <a:ext cx="579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555920" y="2981160"/>
            <a:ext cx="5719680" cy="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582560" y="2357280"/>
            <a:ext cx="569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832200" y="308628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PEG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134040" y="266544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PEG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1552680" y="1758960"/>
            <a:ext cx="574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flipV="1">
            <a:off x="1884240" y="1295280"/>
            <a:ext cx="1108080" cy="462240"/>
          </a:xfrm>
          <a:prstGeom prst="line">
            <a:avLst/>
          </a:prstGeom>
          <a:ln w="3816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686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MPEG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10920" y="574560"/>
            <a:ext cx="389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ding -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1486800" y="604800"/>
            <a:ext cx="53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PEG-2 / 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ans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511280" y="1747800"/>
            <a:ext cx="763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tion of spatial re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hrominace subsampling 4:2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IF: 352 x 288 ;  (QCIF: 176 x1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30480" y="3767040"/>
            <a:ext cx="7913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antisation of DCT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l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EG-4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1"/>
          <a:stretch/>
        </p:blipFill>
        <p:spPr>
          <a:xfrm>
            <a:off x="0" y="1195560"/>
            <a:ext cx="35416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312200" y="650880"/>
            <a:ext cx="7442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D Spatial Reduction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4:2:2) to (4:2: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031840" y="1739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31840" y="265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031840" y="1866960"/>
            <a:ext cx="5550120" cy="863280"/>
            <a:chOff x="2031840" y="1866960"/>
            <a:chExt cx="5550120" cy="863280"/>
          </a:xfrm>
        </p:grpSpPr>
        <p:grpSp>
          <p:nvGrpSpPr>
            <p:cNvPr id="1483" name=""/>
            <p:cNvGrpSpPr/>
            <p:nvPr/>
          </p:nvGrpSpPr>
          <p:grpSpPr>
            <a:xfrm>
              <a:off x="2031840" y="1866960"/>
              <a:ext cx="228600" cy="863280"/>
              <a:chOff x="2031840" y="1866960"/>
              <a:chExt cx="228600" cy="863280"/>
            </a:xfrm>
          </p:grpSpPr>
          <p:sp>
            <p:nvSpPr>
              <p:cNvPr id="1484" name=""/>
              <p:cNvSpPr/>
              <p:nvPr/>
            </p:nvSpPr>
            <p:spPr>
              <a:xfrm>
                <a:off x="2031840" y="2209680"/>
                <a:ext cx="228600" cy="2286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2146320" y="2361960"/>
                <a:ext cx="0" cy="368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46320" y="1866960"/>
                <a:ext cx="0" cy="419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2438280" y="2158920"/>
              <a:ext cx="514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 =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x  ( g x h )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Pix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968400" y="2806560"/>
            <a:ext cx="8175600" cy="1282680"/>
            <a:chOff x="968400" y="2806560"/>
            <a:chExt cx="8175600" cy="1282680"/>
          </a:xfrm>
        </p:grpSpPr>
        <p:grpSp>
          <p:nvGrpSpPr>
            <p:cNvPr id="1489" name=""/>
            <p:cNvGrpSpPr/>
            <p:nvPr/>
          </p:nvGrpSpPr>
          <p:grpSpPr>
            <a:xfrm>
              <a:off x="968400" y="2806560"/>
              <a:ext cx="469800" cy="1282680"/>
              <a:chOff x="968400" y="2806560"/>
              <a:chExt cx="469800" cy="1282680"/>
            </a:xfrm>
          </p:grpSpPr>
          <p:sp>
            <p:nvSpPr>
              <p:cNvPr id="1490" name=""/>
              <p:cNvSpPr/>
              <p:nvPr/>
            </p:nvSpPr>
            <p:spPr>
              <a:xfrm>
                <a:off x="968400" y="280656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981000" y="3632040"/>
                <a:ext cx="4572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1247040" y="3093480"/>
              <a:ext cx="7896960" cy="730080"/>
              <a:chOff x="1247040" y="3093480"/>
              <a:chExt cx="7896960" cy="730080"/>
            </a:xfrm>
          </p:grpSpPr>
          <p:sp>
            <p:nvSpPr>
              <p:cNvPr id="1493" name=""/>
              <p:cNvSpPr/>
              <p:nvPr/>
            </p:nvSpPr>
            <p:spPr>
              <a:xfrm>
                <a:off x="2413080" y="3200400"/>
                <a:ext cx="673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x  (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x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)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    (Matrix in pixel domain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768320" y="3200400"/>
                <a:ext cx="457200" cy="457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1259640" y="3575880"/>
                <a:ext cx="681120" cy="2476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247040" y="3093480"/>
                <a:ext cx="680760" cy="2473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7" name=""/>
          <p:cNvGrpSpPr/>
          <p:nvPr/>
        </p:nvGrpSpPr>
        <p:grpSpPr>
          <a:xfrm>
            <a:off x="635400" y="4114800"/>
            <a:ext cx="8508600" cy="2133000"/>
            <a:chOff x="635400" y="4114800"/>
            <a:chExt cx="8508600" cy="2133000"/>
          </a:xfrm>
        </p:grpSpPr>
        <p:sp>
          <p:nvSpPr>
            <p:cNvPr id="1498" name=""/>
            <p:cNvSpPr/>
            <p:nvPr/>
          </p:nvSpPr>
          <p:spPr>
            <a:xfrm>
              <a:off x="117756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5684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53648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1576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9684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7612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5864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39720" y="4816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7756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35684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53648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1576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9684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7612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5864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439720" y="496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17756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5684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3648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1576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9684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7612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5864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9720" y="512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35400" y="5273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3480" y="534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14320" y="52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7756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35684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3648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1576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89684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7612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25864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39720" y="5273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17756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5684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3648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71576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9684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07612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5864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39720" y="542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7756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35684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3648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1576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89684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07612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25864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39720" y="5578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756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5684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3648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1576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89684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07612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5864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439720" y="5730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17756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35684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3648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1576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9684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7612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25864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439720" y="5884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90720" y="4819680"/>
              <a:ext cx="88920" cy="1211400"/>
            </a:xfrm>
            <a:custGeom>
              <a:avLst/>
              <a:gdLst/>
              <a:ahLst/>
              <a:rect l="l" t="t" r="r" b="b"/>
              <a:pathLst>
                <a:path w="56" h="763">
                  <a:moveTo>
                    <a:pt x="56" y="0"/>
                  </a:move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8" y="20"/>
                  </a:lnTo>
                  <a:lnTo>
                    <a:pt x="4" y="39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699"/>
                  </a:lnTo>
                  <a:lnTo>
                    <a:pt x="2" y="713"/>
                  </a:lnTo>
                  <a:lnTo>
                    <a:pt x="4" y="724"/>
                  </a:lnTo>
                  <a:lnTo>
                    <a:pt x="18" y="743"/>
                  </a:lnTo>
                  <a:lnTo>
                    <a:pt x="25" y="751"/>
                  </a:lnTo>
                  <a:lnTo>
                    <a:pt x="35" y="757"/>
                  </a:lnTo>
                  <a:lnTo>
                    <a:pt x="45" y="761"/>
                  </a:lnTo>
                  <a:lnTo>
                    <a:pt x="56" y="7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563920" y="4802040"/>
              <a:ext cx="88920" cy="1209960"/>
            </a:xfrm>
            <a:custGeom>
              <a:avLst/>
              <a:gdLst/>
              <a:ahLst/>
              <a:rect l="l" t="t" r="r" b="b"/>
              <a:pathLst>
                <a:path w="56" h="762">
                  <a:moveTo>
                    <a:pt x="0" y="0"/>
                  </a:moveTo>
                  <a:lnTo>
                    <a:pt x="12" y="2"/>
                  </a:lnTo>
                  <a:lnTo>
                    <a:pt x="21" y="6"/>
                  </a:lnTo>
                  <a:lnTo>
                    <a:pt x="31" y="11"/>
                  </a:lnTo>
                  <a:lnTo>
                    <a:pt x="41" y="19"/>
                  </a:lnTo>
                  <a:lnTo>
                    <a:pt x="52" y="38"/>
                  </a:lnTo>
                  <a:lnTo>
                    <a:pt x="54" y="50"/>
                  </a:lnTo>
                  <a:lnTo>
                    <a:pt x="56" y="63"/>
                  </a:lnTo>
                  <a:lnTo>
                    <a:pt x="56" y="699"/>
                  </a:lnTo>
                  <a:lnTo>
                    <a:pt x="54" y="712"/>
                  </a:lnTo>
                  <a:lnTo>
                    <a:pt x="52" y="724"/>
                  </a:lnTo>
                  <a:lnTo>
                    <a:pt x="41" y="743"/>
                  </a:lnTo>
                  <a:lnTo>
                    <a:pt x="31" y="751"/>
                  </a:lnTo>
                  <a:lnTo>
                    <a:pt x="21" y="756"/>
                  </a:lnTo>
                  <a:lnTo>
                    <a:pt x="12" y="760"/>
                  </a:lnTo>
                  <a:lnTo>
                    <a:pt x="0" y="7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86352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04280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22208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0172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58244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6208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94460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25320" y="4815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6352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04280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2208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0172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8244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6208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94460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25320" y="4967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86352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04280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2208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40172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58244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6208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94460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125320" y="5119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291120" y="527220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409200" y="5340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01000" y="5272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86352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04280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2208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40172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8244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6208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94460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25320" y="527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86352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4280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22208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0172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8244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6208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4460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125320" y="542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352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4280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22208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0172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58244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6208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94460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12532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86352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04280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2220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40172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8244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7620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94460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2532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6352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04280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2208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40172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8244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6208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94460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125320" y="5883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46440" y="4818240"/>
              <a:ext cx="88920" cy="1211040"/>
            </a:xfrm>
            <a:custGeom>
              <a:avLst/>
              <a:gdLst/>
              <a:ahLst/>
              <a:rect l="l" t="t" r="r" b="b"/>
              <a:pathLst>
                <a:path w="56" h="763">
                  <a:moveTo>
                    <a:pt x="56" y="0"/>
                  </a:moveTo>
                  <a:lnTo>
                    <a:pt x="45" y="2"/>
                  </a:lnTo>
                  <a:lnTo>
                    <a:pt x="35" y="6"/>
                  </a:lnTo>
                  <a:lnTo>
                    <a:pt x="25" y="12"/>
                  </a:lnTo>
                  <a:lnTo>
                    <a:pt x="18" y="20"/>
                  </a:lnTo>
                  <a:lnTo>
                    <a:pt x="4" y="39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699"/>
                  </a:lnTo>
                  <a:lnTo>
                    <a:pt x="2" y="713"/>
                  </a:lnTo>
                  <a:lnTo>
                    <a:pt x="4" y="724"/>
                  </a:lnTo>
                  <a:lnTo>
                    <a:pt x="18" y="743"/>
                  </a:lnTo>
                  <a:lnTo>
                    <a:pt x="25" y="751"/>
                  </a:lnTo>
                  <a:lnTo>
                    <a:pt x="35" y="757"/>
                  </a:lnTo>
                  <a:lnTo>
                    <a:pt x="45" y="761"/>
                  </a:lnTo>
                  <a:lnTo>
                    <a:pt x="56" y="7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199120" y="4807080"/>
              <a:ext cx="90360" cy="1209600"/>
            </a:xfrm>
            <a:custGeom>
              <a:avLst/>
              <a:gdLst/>
              <a:ahLst/>
              <a:rect l="l" t="t" r="r" b="b"/>
              <a:pathLst>
                <a:path w="57" h="762">
                  <a:moveTo>
                    <a:pt x="0" y="0"/>
                  </a:moveTo>
                  <a:lnTo>
                    <a:pt x="11" y="2"/>
                  </a:lnTo>
                  <a:lnTo>
                    <a:pt x="23" y="5"/>
                  </a:lnTo>
                  <a:lnTo>
                    <a:pt x="32" y="11"/>
                  </a:lnTo>
                  <a:lnTo>
                    <a:pt x="40" y="19"/>
                  </a:lnTo>
                  <a:lnTo>
                    <a:pt x="48" y="28"/>
                  </a:lnTo>
                  <a:lnTo>
                    <a:pt x="54" y="38"/>
                  </a:lnTo>
                  <a:lnTo>
                    <a:pt x="55" y="50"/>
                  </a:lnTo>
                  <a:lnTo>
                    <a:pt x="57" y="63"/>
                  </a:lnTo>
                  <a:lnTo>
                    <a:pt x="57" y="699"/>
                  </a:lnTo>
                  <a:lnTo>
                    <a:pt x="55" y="712"/>
                  </a:lnTo>
                  <a:lnTo>
                    <a:pt x="54" y="724"/>
                  </a:lnTo>
                  <a:lnTo>
                    <a:pt x="48" y="733"/>
                  </a:lnTo>
                  <a:lnTo>
                    <a:pt x="40" y="743"/>
                  </a:lnTo>
                  <a:lnTo>
                    <a:pt x="32" y="750"/>
                  </a:lnTo>
                  <a:lnTo>
                    <a:pt x="23" y="756"/>
                  </a:lnTo>
                  <a:lnTo>
                    <a:pt x="11" y="760"/>
                  </a:lnTo>
                  <a:lnTo>
                    <a:pt x="0" y="7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108160" y="4114800"/>
              <a:ext cx="703584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x  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i="1" lang="en-US" sz="20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i="1" lang="en-US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          (Matrix in frequency dom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Chen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81760" y="5181480"/>
              <a:ext cx="246384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= MQ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 = DCT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996840" y="1981080"/>
            <a:ext cx="1778040" cy="13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19400" y="2281320"/>
            <a:ext cx="444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08080" y="2281320"/>
            <a:ext cx="444600" cy="399960"/>
          </a:xfrm>
          <a:prstGeom prst="rect">
            <a:avLst/>
          </a:prstGeom>
          <a:solidFill>
            <a:srgbClr val="ffa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663560" y="228132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219400" y="2781360"/>
            <a:ext cx="444600" cy="39996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108080" y="278136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663560" y="278136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219320" y="1981080"/>
            <a:ext cx="15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croblock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84320" y="1981080"/>
            <a:ext cx="1778040" cy="13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996840" y="3381480"/>
            <a:ext cx="1778040" cy="129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884320" y="3381480"/>
            <a:ext cx="1778040" cy="1299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106880" y="2281320"/>
            <a:ext cx="444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995560" y="2281320"/>
            <a:ext cx="444600" cy="399960"/>
          </a:xfrm>
          <a:prstGeom prst="rect">
            <a:avLst/>
          </a:prstGeom>
          <a:solidFill>
            <a:srgbClr val="ffa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551400" y="2281320"/>
            <a:ext cx="44424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106880" y="2781360"/>
            <a:ext cx="444600" cy="39996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995560" y="278136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551400" y="2781360"/>
            <a:ext cx="44424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106800" y="1981080"/>
            <a:ext cx="15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croblock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19400" y="3681360"/>
            <a:ext cx="444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108080" y="3681360"/>
            <a:ext cx="444600" cy="399960"/>
          </a:xfrm>
          <a:prstGeom prst="rect">
            <a:avLst/>
          </a:prstGeom>
          <a:solidFill>
            <a:srgbClr val="ffa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663560" y="368136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219400" y="4181400"/>
            <a:ext cx="444600" cy="39996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08080" y="418140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663560" y="418140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219320" y="3381480"/>
            <a:ext cx="15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croblock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06880" y="3681360"/>
            <a:ext cx="444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995560" y="3681360"/>
            <a:ext cx="444600" cy="399960"/>
          </a:xfrm>
          <a:prstGeom prst="rect">
            <a:avLst/>
          </a:prstGeom>
          <a:solidFill>
            <a:srgbClr val="ffa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551400" y="3681360"/>
            <a:ext cx="44424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106880" y="4181400"/>
            <a:ext cx="444600" cy="39996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995560" y="4181400"/>
            <a:ext cx="4446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551400" y="4181400"/>
            <a:ext cx="44424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06800" y="3381480"/>
            <a:ext cx="155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croblock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481880" y="2952720"/>
            <a:ext cx="444600" cy="399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372360" y="2952720"/>
            <a:ext cx="444240" cy="399960"/>
          </a:xfrm>
          <a:prstGeom prst="rect">
            <a:avLst/>
          </a:prstGeom>
          <a:solidFill>
            <a:srgbClr val="ffa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927840" y="2952720"/>
            <a:ext cx="442800" cy="399960"/>
          </a:xfrm>
          <a:prstGeom prst="rect">
            <a:avLst/>
          </a:prstGeom>
          <a:solidFill>
            <a:srgbClr val="ffdd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481880" y="3452760"/>
            <a:ext cx="444600" cy="399960"/>
          </a:xfrm>
          <a:prstGeom prst="rect">
            <a:avLst/>
          </a:prstGeom>
          <a:solidFill>
            <a:srgbClr val="b9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6372360" y="3452760"/>
            <a:ext cx="997920" cy="399600"/>
            <a:chOff x="6372360" y="3452760"/>
            <a:chExt cx="997920" cy="399600"/>
          </a:xfrm>
        </p:grpSpPr>
        <p:sp>
          <p:nvSpPr>
            <p:cNvPr id="1675" name=""/>
            <p:cNvSpPr/>
            <p:nvPr/>
          </p:nvSpPr>
          <p:spPr>
            <a:xfrm>
              <a:off x="6372360" y="3452760"/>
              <a:ext cx="443520" cy="399600"/>
            </a:xfrm>
            <a:prstGeom prst="rect">
              <a:avLst/>
            </a:prstGeom>
            <a:solidFill>
              <a:srgbClr val="ffd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27120" y="3452760"/>
              <a:ext cx="443160" cy="399600"/>
            </a:xfrm>
            <a:prstGeom prst="rect">
              <a:avLst/>
            </a:prstGeom>
            <a:solidFill>
              <a:srgbClr val="ffd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7" name=""/>
          <p:cNvSpPr/>
          <p:nvPr/>
        </p:nvSpPr>
        <p:spPr>
          <a:xfrm>
            <a:off x="6261120" y="2652840"/>
            <a:ext cx="1776240" cy="12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372360" y="2652840"/>
            <a:ext cx="199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ed macrobloc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20267400">
            <a:off x="4695480" y="4149720"/>
            <a:ext cx="1511280" cy="331920"/>
          </a:xfrm>
          <a:prstGeom prst="rightArrow">
            <a:avLst>
              <a:gd name="adj1" fmla="val 50000"/>
              <a:gd name="adj2" fmla="val 11382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 rot="1332600">
            <a:off x="4660920" y="2165400"/>
            <a:ext cx="1511280" cy="331560"/>
          </a:xfrm>
          <a:prstGeom prst="rightArrow">
            <a:avLst>
              <a:gd name="adj1" fmla="val 50000"/>
              <a:gd name="adj2" fmla="val 11395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1491840" y="584280"/>
            <a:ext cx="4249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D Spatial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1640" y="5207040"/>
            <a:ext cx="70232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x 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Times New Roman"/>
              </a:rPr>
              <a:t>1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Times New Roman"/>
              </a:rPr>
              <a:t>2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Times New Roman"/>
              </a:rPr>
              <a:t>3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Times New Roman"/>
              </a:rPr>
              <a:t>4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atrix in frequency dom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0:24:55Z</dcterms:created>
  <dc:creator>Hedtke</dc:creator>
  <dc:description/>
  <dc:language>en-US</dc:language>
  <cp:lastModifiedBy>R. Hedtke</cp:lastModifiedBy>
  <dcterms:modified xsi:type="dcterms:W3CDTF">2001-11-06T12:50:02Z</dcterms:modified>
  <cp:revision>21</cp:revision>
  <dc:subject/>
  <dc:title>Kein Folientitel</dc:title>
</cp:coreProperties>
</file>